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C37-8111-4FE2-A4B9-1F4AF70E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A6D-1614-4A31-8310-AA6CB072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E8B-9004-4D9F-9643-401BD60C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55F-79A2-42F6-A51F-E94AD292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8861-4461-42C3-890A-80426ABF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F3CC-D752-430B-8E8C-26F9E271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B5B4-2ECE-46DC-9079-ED764F2D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4222-079E-42F4-ADE6-7899D78A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93A9-A733-41D3-B689-DCF02CC0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2662-075C-4BE4-A19A-AF592F96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CE14-8C4C-457F-A8FC-DD3F050A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819-F2E9-4FDD-B606-6C966C5A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01F2-71DF-4563-9BD0-5608D114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F4B4-990D-4EC9-A51C-50DE1B5F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DC4C-2BD3-4583-BEA6-A204CAFB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ADAC-2A27-46BB-B9EF-69A89BA1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93D3-1F34-4D3A-B585-EC198305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08F-14F2-47F8-BA73-9DA8C735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65D-856D-418F-AA02-F9790FCA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ECD-3D1D-4731-8246-3F41A4B7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E22-7D77-48DC-9033-C7B4E578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4AA-0152-4D98-B800-8E06E120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731-6F7E-4AF8-97BD-3052A279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979-09D6-44A6-BCBD-881D3139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5925-25D8-4506-9EDA-49507FFC6C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D345-AFC3-4A14-8591-7B4652CC46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Warm-up: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ify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4477d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/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4477de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/3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510000" y="2928960"/>
            <a:ext cx="1527120" cy="696960"/>
          </a:xfrm>
          <a:custGeom>
            <a:avLst/>
            <a:gdLst/>
            <a:ahLst/>
            <a:rect l="l" t="t" r="r" b="b"/>
            <a:pathLst>
              <a:path w="4243" h="1936">
                <a:moveTo>
                  <a:pt x="10319" y="8483"/>
                </a:moveTo>
                <a:cubicBezTo>
                  <a:pt x="10349" y="8438"/>
                  <a:pt x="10403" y="8362"/>
                  <a:pt x="10344" y="8310"/>
                </a:cubicBezTo>
                <a:cubicBezTo>
                  <a:pt x="10278" y="8253"/>
                  <a:pt x="10180" y="8228"/>
                  <a:pt x="10096" y="8260"/>
                </a:cubicBezTo>
                <a:cubicBezTo>
                  <a:pt x="10020" y="8289"/>
                  <a:pt x="9899" y="8355"/>
                  <a:pt x="9922" y="8458"/>
                </a:cubicBezTo>
                <a:cubicBezTo>
                  <a:pt x="9946" y="8564"/>
                  <a:pt x="10020" y="8602"/>
                  <a:pt x="10120" y="8558"/>
                </a:cubicBezTo>
                <a:cubicBezTo>
                  <a:pt x="10170" y="8536"/>
                  <a:pt x="10269" y="8467"/>
                  <a:pt x="10294" y="8434"/>
                </a:cubicBezTo>
                <a:cubicBezTo>
                  <a:pt x="10316" y="8390"/>
                  <a:pt x="10319" y="8378"/>
                  <a:pt x="10344" y="8359"/>
                </a:cubicBezTo>
                <a:cubicBezTo>
                  <a:pt x="10336" y="8485"/>
                  <a:pt x="10319" y="8603"/>
                  <a:pt x="10319" y="8731"/>
                </a:cubicBezTo>
                <a:cubicBezTo>
                  <a:pt x="10319" y="8816"/>
                  <a:pt x="10331" y="8876"/>
                  <a:pt x="10344" y="8954"/>
                </a:cubicBezTo>
                <a:cubicBezTo>
                  <a:pt x="10344" y="8971"/>
                  <a:pt x="10344" y="8987"/>
                  <a:pt x="10344" y="9004"/>
                </a:cubicBezTo>
              </a:path>
              <a:path w="4243" h="1936">
                <a:moveTo>
                  <a:pt x="9748" y="9227"/>
                </a:moveTo>
                <a:cubicBezTo>
                  <a:pt x="9927" y="9177"/>
                  <a:pt x="10087" y="9151"/>
                  <a:pt x="10269" y="9128"/>
                </a:cubicBezTo>
                <a:cubicBezTo>
                  <a:pt x="10393" y="9113"/>
                  <a:pt x="10518" y="9085"/>
                  <a:pt x="10641" y="9079"/>
                </a:cubicBezTo>
                <a:cubicBezTo>
                  <a:pt x="10683" y="9079"/>
                  <a:pt x="10691" y="9079"/>
                  <a:pt x="10716" y="9079"/>
                </a:cubicBezTo>
              </a:path>
              <a:path w="4243" h="1936">
                <a:moveTo>
                  <a:pt x="9823" y="9525"/>
                </a:moveTo>
                <a:cubicBezTo>
                  <a:pt x="9889" y="9575"/>
                  <a:pt x="9896" y="9708"/>
                  <a:pt x="9922" y="9798"/>
                </a:cubicBezTo>
                <a:cubicBezTo>
                  <a:pt x="9944" y="9863"/>
                  <a:pt x="9952" y="9878"/>
                  <a:pt x="9947" y="9922"/>
                </a:cubicBezTo>
              </a:path>
              <a:path w="4243" h="1936">
                <a:moveTo>
                  <a:pt x="10294" y="9401"/>
                </a:moveTo>
                <a:cubicBezTo>
                  <a:pt x="10394" y="9379"/>
                  <a:pt x="10436" y="9331"/>
                  <a:pt x="10542" y="9376"/>
                </a:cubicBezTo>
                <a:cubicBezTo>
                  <a:pt x="10685" y="9436"/>
                  <a:pt x="10538" y="9601"/>
                  <a:pt x="10492" y="9674"/>
                </a:cubicBezTo>
                <a:cubicBezTo>
                  <a:pt x="10401" y="9819"/>
                  <a:pt x="10328" y="9900"/>
                  <a:pt x="10170" y="9798"/>
                </a:cubicBezTo>
                <a:cubicBezTo>
                  <a:pt x="10118" y="9765"/>
                  <a:pt x="10131" y="9786"/>
                  <a:pt x="10120" y="9723"/>
                </a:cubicBezTo>
                <a:cubicBezTo>
                  <a:pt x="10264" y="9661"/>
                  <a:pt x="10299" y="9700"/>
                  <a:pt x="10443" y="9748"/>
                </a:cubicBezTo>
                <a:cubicBezTo>
                  <a:pt x="10515" y="9772"/>
                  <a:pt x="10610" y="9774"/>
                  <a:pt x="10666" y="9823"/>
                </a:cubicBezTo>
                <a:cubicBezTo>
                  <a:pt x="10696" y="9852"/>
                  <a:pt x="10710" y="9863"/>
                  <a:pt x="10740" y="9872"/>
                </a:cubicBezTo>
              </a:path>
              <a:path w="4243" h="1936">
                <a:moveTo>
                  <a:pt x="10914" y="8483"/>
                </a:moveTo>
                <a:cubicBezTo>
                  <a:pt x="10971" y="8483"/>
                  <a:pt x="11010" y="8469"/>
                  <a:pt x="11063" y="8458"/>
                </a:cubicBezTo>
              </a:path>
              <a:path w="4243" h="1936">
                <a:moveTo>
                  <a:pt x="10939" y="8285"/>
                </a:moveTo>
                <a:cubicBezTo>
                  <a:pt x="10939" y="8277"/>
                  <a:pt x="10939" y="8268"/>
                  <a:pt x="10939" y="8260"/>
                </a:cubicBezTo>
              </a:path>
              <a:path w="4243" h="1936">
                <a:moveTo>
                  <a:pt x="11038" y="8657"/>
                </a:moveTo>
                <a:cubicBezTo>
                  <a:pt x="11060" y="8700"/>
                  <a:pt x="11064" y="8712"/>
                  <a:pt x="11088" y="8731"/>
                </a:cubicBezTo>
              </a:path>
              <a:path w="4243" h="1936">
                <a:moveTo>
                  <a:pt x="11261" y="8409"/>
                </a:moveTo>
                <a:cubicBezTo>
                  <a:pt x="11335" y="8409"/>
                  <a:pt x="11400" y="8398"/>
                  <a:pt x="11460" y="8434"/>
                </a:cubicBezTo>
                <a:cubicBezTo>
                  <a:pt x="11433" y="8512"/>
                  <a:pt x="11397" y="8534"/>
                  <a:pt x="11336" y="8582"/>
                </a:cubicBezTo>
                <a:cubicBezTo>
                  <a:pt x="11416" y="8582"/>
                  <a:pt x="11492" y="8590"/>
                  <a:pt x="11559" y="8607"/>
                </a:cubicBezTo>
                <a:cubicBezTo>
                  <a:pt x="11603" y="8618"/>
                  <a:pt x="11596" y="8719"/>
                  <a:pt x="11559" y="8756"/>
                </a:cubicBezTo>
                <a:cubicBezTo>
                  <a:pt x="11530" y="8785"/>
                  <a:pt x="11494" y="8744"/>
                  <a:pt x="11485" y="8731"/>
                </a:cubicBezTo>
              </a:path>
              <a:path w="4243" h="1936">
                <a:moveTo>
                  <a:pt x="10988" y="9302"/>
                </a:moveTo>
                <a:cubicBezTo>
                  <a:pt x="11070" y="9302"/>
                  <a:pt x="11185" y="9299"/>
                  <a:pt x="11261" y="9277"/>
                </a:cubicBezTo>
                <a:cubicBezTo>
                  <a:pt x="11284" y="9254"/>
                  <a:pt x="11288" y="9246"/>
                  <a:pt x="11311" y="9252"/>
                </a:cubicBezTo>
              </a:path>
              <a:path w="4243" h="1936">
                <a:moveTo>
                  <a:pt x="11212" y="9054"/>
                </a:moveTo>
                <a:cubicBezTo>
                  <a:pt x="11212" y="9046"/>
                  <a:pt x="11212" y="9037"/>
                  <a:pt x="11212" y="9029"/>
                </a:cubicBezTo>
              </a:path>
              <a:path w="4243" h="1936">
                <a:moveTo>
                  <a:pt x="11237" y="9500"/>
                </a:moveTo>
                <a:lnTo>
                  <a:pt x="11237" y="9500"/>
                </a:lnTo>
              </a:path>
              <a:path w="4243" h="1936">
                <a:moveTo>
                  <a:pt x="11509" y="9054"/>
                </a:moveTo>
                <a:cubicBezTo>
                  <a:pt x="11580" y="9054"/>
                  <a:pt x="11668" y="9053"/>
                  <a:pt x="11708" y="9128"/>
                </a:cubicBezTo>
                <a:cubicBezTo>
                  <a:pt x="11746" y="9200"/>
                  <a:pt x="11627" y="9228"/>
                  <a:pt x="11584" y="9252"/>
                </a:cubicBezTo>
                <a:cubicBezTo>
                  <a:pt x="11601" y="9258"/>
                  <a:pt x="11671" y="9272"/>
                  <a:pt x="11683" y="9302"/>
                </a:cubicBezTo>
                <a:cubicBezTo>
                  <a:pt x="11705" y="9359"/>
                  <a:pt x="11674" y="9484"/>
                  <a:pt x="11633" y="9525"/>
                </a:cubicBezTo>
                <a:cubicBezTo>
                  <a:pt x="11559" y="9600"/>
                  <a:pt x="11495" y="9551"/>
                  <a:pt x="11485" y="9475"/>
                </a:cubicBezTo>
              </a:path>
              <a:path w="4243" h="1936">
                <a:moveTo>
                  <a:pt x="12080" y="8731"/>
                </a:moveTo>
                <a:cubicBezTo>
                  <a:pt x="12181" y="8748"/>
                  <a:pt x="12273" y="8756"/>
                  <a:pt x="12378" y="8756"/>
                </a:cubicBezTo>
                <a:cubicBezTo>
                  <a:pt x="12403" y="8756"/>
                  <a:pt x="12427" y="8756"/>
                  <a:pt x="12452" y="8756"/>
                </a:cubicBezTo>
              </a:path>
              <a:path w="4243" h="1936">
                <a:moveTo>
                  <a:pt x="12055" y="9029"/>
                </a:moveTo>
                <a:cubicBezTo>
                  <a:pt x="12123" y="9057"/>
                  <a:pt x="12142" y="9079"/>
                  <a:pt x="12229" y="9079"/>
                </a:cubicBezTo>
                <a:cubicBezTo>
                  <a:pt x="12303" y="9079"/>
                  <a:pt x="12378" y="9079"/>
                  <a:pt x="12452" y="9079"/>
                </a:cubicBezTo>
              </a:path>
              <a:path w="4243" h="1936">
                <a:moveTo>
                  <a:pt x="12750" y="8285"/>
                </a:moveTo>
                <a:cubicBezTo>
                  <a:pt x="12834" y="8199"/>
                  <a:pt x="12945" y="8154"/>
                  <a:pt x="13072" y="8186"/>
                </a:cubicBezTo>
                <a:cubicBezTo>
                  <a:pt x="13241" y="8229"/>
                  <a:pt x="13084" y="8420"/>
                  <a:pt x="13022" y="8483"/>
                </a:cubicBezTo>
                <a:cubicBezTo>
                  <a:pt x="13006" y="8491"/>
                  <a:pt x="12989" y="8500"/>
                  <a:pt x="12973" y="8508"/>
                </a:cubicBezTo>
                <a:cubicBezTo>
                  <a:pt x="13038" y="8508"/>
                  <a:pt x="13116" y="8518"/>
                  <a:pt x="13146" y="8582"/>
                </a:cubicBezTo>
                <a:cubicBezTo>
                  <a:pt x="13146" y="8599"/>
                  <a:pt x="13146" y="8615"/>
                  <a:pt x="13146" y="8632"/>
                </a:cubicBezTo>
                <a:cubicBezTo>
                  <a:pt x="13031" y="8709"/>
                  <a:pt x="12954" y="8779"/>
                  <a:pt x="12799" y="8756"/>
                </a:cubicBezTo>
                <a:cubicBezTo>
                  <a:pt x="12705" y="8742"/>
                  <a:pt x="12702" y="8678"/>
                  <a:pt x="12675" y="8607"/>
                </a:cubicBezTo>
              </a:path>
              <a:path w="4243" h="1936">
                <a:moveTo>
                  <a:pt x="12799" y="9103"/>
                </a:moveTo>
                <a:cubicBezTo>
                  <a:pt x="12786" y="9067"/>
                  <a:pt x="12769" y="9079"/>
                  <a:pt x="12725" y="9079"/>
                </a:cubicBezTo>
                <a:cubicBezTo>
                  <a:pt x="12700" y="9079"/>
                  <a:pt x="12692" y="9079"/>
                  <a:pt x="12675" y="9079"/>
                </a:cubicBezTo>
                <a:cubicBezTo>
                  <a:pt x="12865" y="9060"/>
                  <a:pt x="13057" y="9048"/>
                  <a:pt x="13246" y="9029"/>
                </a:cubicBezTo>
                <a:cubicBezTo>
                  <a:pt x="13347" y="9019"/>
                  <a:pt x="13420" y="9004"/>
                  <a:pt x="13519" y="9004"/>
                </a:cubicBezTo>
              </a:path>
              <a:path w="4243" h="1936">
                <a:moveTo>
                  <a:pt x="12799" y="9376"/>
                </a:moveTo>
                <a:cubicBezTo>
                  <a:pt x="12825" y="9440"/>
                  <a:pt x="12786" y="9521"/>
                  <a:pt x="12774" y="9599"/>
                </a:cubicBezTo>
                <a:cubicBezTo>
                  <a:pt x="12758" y="9703"/>
                  <a:pt x="12911" y="9664"/>
                  <a:pt x="12973" y="9649"/>
                </a:cubicBezTo>
                <a:cubicBezTo>
                  <a:pt x="13037" y="9634"/>
                  <a:pt x="13090" y="9613"/>
                  <a:pt x="13146" y="9599"/>
                </a:cubicBezTo>
              </a:path>
              <a:path w="4243" h="1936">
                <a:moveTo>
                  <a:pt x="13171" y="9376"/>
                </a:moveTo>
                <a:cubicBezTo>
                  <a:pt x="13153" y="9447"/>
                  <a:pt x="13146" y="9516"/>
                  <a:pt x="13146" y="9599"/>
                </a:cubicBezTo>
                <a:cubicBezTo>
                  <a:pt x="13146" y="9682"/>
                  <a:pt x="13146" y="9764"/>
                  <a:pt x="13146" y="9847"/>
                </a:cubicBezTo>
              </a:path>
              <a:path w="4243" h="1936">
                <a:moveTo>
                  <a:pt x="13643" y="8756"/>
                </a:moveTo>
                <a:cubicBezTo>
                  <a:pt x="13630" y="8656"/>
                  <a:pt x="13655" y="8641"/>
                  <a:pt x="13593" y="8558"/>
                </a:cubicBezTo>
                <a:cubicBezTo>
                  <a:pt x="13539" y="8485"/>
                  <a:pt x="13486" y="8397"/>
                  <a:pt x="13419" y="8334"/>
                </a:cubicBezTo>
                <a:cubicBezTo>
                  <a:pt x="13356" y="8275"/>
                  <a:pt x="13236" y="8181"/>
                  <a:pt x="13146" y="8161"/>
                </a:cubicBezTo>
                <a:cubicBezTo>
                  <a:pt x="13035" y="8136"/>
                  <a:pt x="12954" y="8155"/>
                  <a:pt x="12849" y="8161"/>
                </a:cubicBezTo>
                <a:cubicBezTo>
                  <a:pt x="12760" y="8166"/>
                  <a:pt x="12736" y="8181"/>
                  <a:pt x="12650" y="8210"/>
                </a:cubicBezTo>
                <a:cubicBezTo>
                  <a:pt x="12584" y="8232"/>
                  <a:pt x="12510" y="8247"/>
                  <a:pt x="12452" y="8285"/>
                </a:cubicBezTo>
                <a:cubicBezTo>
                  <a:pt x="12346" y="8355"/>
                  <a:pt x="12271" y="8490"/>
                  <a:pt x="12229" y="8607"/>
                </a:cubicBezTo>
                <a:cubicBezTo>
                  <a:pt x="12172" y="8764"/>
                  <a:pt x="12192" y="8870"/>
                  <a:pt x="12204" y="9029"/>
                </a:cubicBezTo>
                <a:cubicBezTo>
                  <a:pt x="12214" y="9163"/>
                  <a:pt x="12221" y="9269"/>
                  <a:pt x="12254" y="9401"/>
                </a:cubicBezTo>
                <a:cubicBezTo>
                  <a:pt x="12283" y="9519"/>
                  <a:pt x="12305" y="9624"/>
                  <a:pt x="12378" y="9723"/>
                </a:cubicBezTo>
                <a:cubicBezTo>
                  <a:pt x="12448" y="9818"/>
                  <a:pt x="12554" y="9905"/>
                  <a:pt x="12650" y="9971"/>
                </a:cubicBezTo>
                <a:cubicBezTo>
                  <a:pt x="12772" y="10055"/>
                  <a:pt x="12880" y="10046"/>
                  <a:pt x="13022" y="10046"/>
                </a:cubicBezTo>
                <a:cubicBezTo>
                  <a:pt x="13125" y="10046"/>
                  <a:pt x="13216" y="10082"/>
                  <a:pt x="13320" y="10071"/>
                </a:cubicBezTo>
                <a:cubicBezTo>
                  <a:pt x="13421" y="10060"/>
                  <a:pt x="13551" y="10044"/>
                  <a:pt x="13643" y="9996"/>
                </a:cubicBezTo>
                <a:cubicBezTo>
                  <a:pt x="13740" y="9946"/>
                  <a:pt x="13799" y="9878"/>
                  <a:pt x="13866" y="9798"/>
                </a:cubicBezTo>
                <a:cubicBezTo>
                  <a:pt x="13958" y="9687"/>
                  <a:pt x="13979" y="9542"/>
                  <a:pt x="13990" y="9401"/>
                </a:cubicBezTo>
                <a:cubicBezTo>
                  <a:pt x="14000" y="9271"/>
                  <a:pt x="13997" y="9128"/>
                  <a:pt x="13965" y="9004"/>
                </a:cubicBezTo>
                <a:cubicBezTo>
                  <a:pt x="13957" y="8975"/>
                  <a:pt x="13882" y="8915"/>
                  <a:pt x="13841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37000" y="4106880"/>
            <a:ext cx="3340080" cy="1197000"/>
          </a:xfrm>
          <a:custGeom>
            <a:avLst/>
            <a:gdLst/>
            <a:ahLst/>
            <a:rect l="l" t="t" r="r" b="b"/>
            <a:pathLst>
              <a:path w="9278" h="3325">
                <a:moveTo>
                  <a:pt x="10269" y="12452"/>
                </a:moveTo>
                <a:cubicBezTo>
                  <a:pt x="10189" y="12452"/>
                  <a:pt x="10212" y="12419"/>
                  <a:pt x="10294" y="12378"/>
                </a:cubicBezTo>
                <a:cubicBezTo>
                  <a:pt x="10375" y="12337"/>
                  <a:pt x="10439" y="12350"/>
                  <a:pt x="10468" y="12452"/>
                </a:cubicBezTo>
                <a:cubicBezTo>
                  <a:pt x="10497" y="12555"/>
                  <a:pt x="10435" y="12740"/>
                  <a:pt x="10344" y="12799"/>
                </a:cubicBezTo>
                <a:cubicBezTo>
                  <a:pt x="10276" y="12843"/>
                  <a:pt x="10160" y="12792"/>
                  <a:pt x="10145" y="12725"/>
                </a:cubicBezTo>
                <a:cubicBezTo>
                  <a:pt x="10145" y="12717"/>
                  <a:pt x="10145" y="12708"/>
                  <a:pt x="10145" y="12700"/>
                </a:cubicBezTo>
                <a:cubicBezTo>
                  <a:pt x="10270" y="12679"/>
                  <a:pt x="10352" y="12695"/>
                  <a:pt x="10468" y="12750"/>
                </a:cubicBezTo>
                <a:cubicBezTo>
                  <a:pt x="10531" y="12780"/>
                  <a:pt x="10533" y="12790"/>
                  <a:pt x="10567" y="12849"/>
                </a:cubicBezTo>
              </a:path>
              <a:path w="9278" h="3325">
                <a:moveTo>
                  <a:pt x="10815" y="12254"/>
                </a:moveTo>
                <a:cubicBezTo>
                  <a:pt x="10815" y="12319"/>
                  <a:pt x="10795" y="12363"/>
                  <a:pt x="10790" y="12427"/>
                </a:cubicBezTo>
                <a:cubicBezTo>
                  <a:pt x="10785" y="12495"/>
                  <a:pt x="10992" y="12495"/>
                  <a:pt x="11038" y="12477"/>
                </a:cubicBezTo>
                <a:cubicBezTo>
                  <a:pt x="11038" y="12449"/>
                  <a:pt x="11040" y="12438"/>
                  <a:pt x="11063" y="12427"/>
                </a:cubicBezTo>
              </a:path>
              <a:path w="9278" h="3325">
                <a:moveTo>
                  <a:pt x="11038" y="12254"/>
                </a:moveTo>
                <a:cubicBezTo>
                  <a:pt x="10975" y="12362"/>
                  <a:pt x="10964" y="12501"/>
                  <a:pt x="10939" y="12626"/>
                </a:cubicBezTo>
                <a:cubicBezTo>
                  <a:pt x="10924" y="12700"/>
                  <a:pt x="10901" y="12775"/>
                  <a:pt x="10889" y="12849"/>
                </a:cubicBezTo>
              </a:path>
              <a:path w="9278" h="3325">
                <a:moveTo>
                  <a:pt x="9971" y="12973"/>
                </a:moveTo>
                <a:cubicBezTo>
                  <a:pt x="10310" y="12973"/>
                  <a:pt x="10688" y="12928"/>
                  <a:pt x="11013" y="12998"/>
                </a:cubicBezTo>
              </a:path>
              <a:path w="9278" h="3325">
                <a:moveTo>
                  <a:pt x="9823" y="13395"/>
                </a:moveTo>
                <a:cubicBezTo>
                  <a:pt x="9897" y="13378"/>
                  <a:pt x="10033" y="13334"/>
                  <a:pt x="10071" y="13395"/>
                </a:cubicBezTo>
                <a:cubicBezTo>
                  <a:pt x="10124" y="13481"/>
                  <a:pt x="10028" y="13536"/>
                  <a:pt x="9971" y="13593"/>
                </a:cubicBezTo>
                <a:cubicBezTo>
                  <a:pt x="10111" y="13593"/>
                  <a:pt x="10207" y="13598"/>
                  <a:pt x="10344" y="13643"/>
                </a:cubicBezTo>
                <a:cubicBezTo>
                  <a:pt x="10360" y="13651"/>
                  <a:pt x="10377" y="13659"/>
                  <a:pt x="10393" y="13667"/>
                </a:cubicBezTo>
                <a:cubicBezTo>
                  <a:pt x="10381" y="13805"/>
                  <a:pt x="10360" y="13882"/>
                  <a:pt x="10220" y="13940"/>
                </a:cubicBezTo>
                <a:cubicBezTo>
                  <a:pt x="10109" y="13985"/>
                  <a:pt x="9943" y="13987"/>
                  <a:pt x="9872" y="13915"/>
                </a:cubicBezTo>
              </a:path>
              <a:path w="9278" h="3325">
                <a:moveTo>
                  <a:pt x="10542" y="13345"/>
                </a:moveTo>
                <a:cubicBezTo>
                  <a:pt x="10502" y="13448"/>
                  <a:pt x="10413" y="13575"/>
                  <a:pt x="10443" y="13692"/>
                </a:cubicBezTo>
                <a:cubicBezTo>
                  <a:pt x="10484" y="13854"/>
                  <a:pt x="10604" y="13948"/>
                  <a:pt x="10765" y="13940"/>
                </a:cubicBezTo>
                <a:cubicBezTo>
                  <a:pt x="10886" y="13934"/>
                  <a:pt x="11032" y="13841"/>
                  <a:pt x="11063" y="13717"/>
                </a:cubicBezTo>
                <a:cubicBezTo>
                  <a:pt x="11063" y="13632"/>
                  <a:pt x="11069" y="13612"/>
                  <a:pt x="11038" y="13568"/>
                </a:cubicBezTo>
                <a:cubicBezTo>
                  <a:pt x="10925" y="13581"/>
                  <a:pt x="10859" y="13615"/>
                  <a:pt x="10840" y="13742"/>
                </a:cubicBezTo>
                <a:cubicBezTo>
                  <a:pt x="10829" y="13813"/>
                  <a:pt x="10833" y="13862"/>
                  <a:pt x="10864" y="13915"/>
                </a:cubicBezTo>
              </a:path>
              <a:path w="9278" h="3325">
                <a:moveTo>
                  <a:pt x="11435" y="12502"/>
                </a:moveTo>
                <a:cubicBezTo>
                  <a:pt x="11460" y="12573"/>
                  <a:pt x="11569" y="12533"/>
                  <a:pt x="11633" y="12526"/>
                </a:cubicBezTo>
                <a:cubicBezTo>
                  <a:pt x="11658" y="12526"/>
                  <a:pt x="11666" y="12526"/>
                  <a:pt x="11683" y="12526"/>
                </a:cubicBezTo>
              </a:path>
              <a:path w="9278" h="3325">
                <a:moveTo>
                  <a:pt x="11584" y="12353"/>
                </a:moveTo>
                <a:cubicBezTo>
                  <a:pt x="11592" y="12353"/>
                  <a:pt x="11601" y="12353"/>
                  <a:pt x="11609" y="12353"/>
                </a:cubicBezTo>
              </a:path>
              <a:path w="9278" h="3325">
                <a:moveTo>
                  <a:pt x="11683" y="12824"/>
                </a:moveTo>
                <a:cubicBezTo>
                  <a:pt x="11683" y="12799"/>
                  <a:pt x="11683" y="12791"/>
                  <a:pt x="11708" y="12799"/>
                </a:cubicBezTo>
              </a:path>
              <a:path w="9278" h="3325">
                <a:moveTo>
                  <a:pt x="12154" y="12278"/>
                </a:moveTo>
                <a:cubicBezTo>
                  <a:pt x="12101" y="12373"/>
                  <a:pt x="12026" y="12486"/>
                  <a:pt x="12030" y="12601"/>
                </a:cubicBezTo>
                <a:cubicBezTo>
                  <a:pt x="12033" y="12696"/>
                  <a:pt x="12094" y="12787"/>
                  <a:pt x="12179" y="12824"/>
                </a:cubicBezTo>
                <a:cubicBezTo>
                  <a:pt x="12266" y="12862"/>
                  <a:pt x="12333" y="12863"/>
                  <a:pt x="12402" y="12799"/>
                </a:cubicBezTo>
                <a:cubicBezTo>
                  <a:pt x="12468" y="12738"/>
                  <a:pt x="12479" y="12587"/>
                  <a:pt x="12328" y="12626"/>
                </a:cubicBezTo>
                <a:cubicBezTo>
                  <a:pt x="12217" y="12655"/>
                  <a:pt x="12237" y="12786"/>
                  <a:pt x="12254" y="12849"/>
                </a:cubicBezTo>
                <a:cubicBezTo>
                  <a:pt x="12254" y="12857"/>
                  <a:pt x="12254" y="12866"/>
                  <a:pt x="12254" y="12874"/>
                </a:cubicBezTo>
              </a:path>
              <a:path w="9278" h="3325">
                <a:moveTo>
                  <a:pt x="11906" y="13543"/>
                </a:moveTo>
                <a:cubicBezTo>
                  <a:pt x="12001" y="13543"/>
                  <a:pt x="12063" y="13510"/>
                  <a:pt x="12154" y="13494"/>
                </a:cubicBezTo>
                <a:cubicBezTo>
                  <a:pt x="12199" y="13494"/>
                  <a:pt x="12212" y="13497"/>
                  <a:pt x="12229" y="13469"/>
                </a:cubicBezTo>
              </a:path>
              <a:path w="9278" h="3325">
                <a:moveTo>
                  <a:pt x="12055" y="13271"/>
                </a:moveTo>
                <a:lnTo>
                  <a:pt x="12055" y="13271"/>
                </a:lnTo>
              </a:path>
              <a:path w="9278" h="3325">
                <a:moveTo>
                  <a:pt x="12254" y="13742"/>
                </a:moveTo>
                <a:cubicBezTo>
                  <a:pt x="12254" y="13767"/>
                  <a:pt x="12254" y="13775"/>
                  <a:pt x="12254" y="13742"/>
                </a:cubicBezTo>
              </a:path>
              <a:path w="9278" h="3325">
                <a:moveTo>
                  <a:pt x="12675" y="13295"/>
                </a:moveTo>
                <a:cubicBezTo>
                  <a:pt x="12635" y="13349"/>
                  <a:pt x="12624" y="13426"/>
                  <a:pt x="12601" y="13494"/>
                </a:cubicBezTo>
                <a:cubicBezTo>
                  <a:pt x="12572" y="13582"/>
                  <a:pt x="12551" y="13705"/>
                  <a:pt x="12601" y="13791"/>
                </a:cubicBezTo>
                <a:cubicBezTo>
                  <a:pt x="12675" y="13918"/>
                  <a:pt x="12834" y="13921"/>
                  <a:pt x="12898" y="13791"/>
                </a:cubicBezTo>
                <a:cubicBezTo>
                  <a:pt x="12953" y="13680"/>
                  <a:pt x="12804" y="13737"/>
                  <a:pt x="12774" y="13767"/>
                </a:cubicBezTo>
                <a:cubicBezTo>
                  <a:pt x="12741" y="13800"/>
                  <a:pt x="12746" y="13808"/>
                  <a:pt x="12824" y="13791"/>
                </a:cubicBezTo>
              </a:path>
              <a:path w="9278" h="3325">
                <a:moveTo>
                  <a:pt x="13146" y="12898"/>
                </a:moveTo>
                <a:cubicBezTo>
                  <a:pt x="13217" y="12875"/>
                  <a:pt x="13295" y="12856"/>
                  <a:pt x="13370" y="12849"/>
                </a:cubicBezTo>
                <a:cubicBezTo>
                  <a:pt x="13378" y="12849"/>
                  <a:pt x="13387" y="12849"/>
                  <a:pt x="13395" y="12849"/>
                </a:cubicBezTo>
              </a:path>
              <a:path w="9278" h="3325">
                <a:moveTo>
                  <a:pt x="13196" y="13146"/>
                </a:moveTo>
                <a:cubicBezTo>
                  <a:pt x="13280" y="13130"/>
                  <a:pt x="13355" y="13102"/>
                  <a:pt x="13444" y="13097"/>
                </a:cubicBezTo>
                <a:cubicBezTo>
                  <a:pt x="13469" y="13097"/>
                  <a:pt x="13477" y="13097"/>
                  <a:pt x="13494" y="13097"/>
                </a:cubicBezTo>
              </a:path>
              <a:path w="9278" h="3325">
                <a:moveTo>
                  <a:pt x="14039" y="12452"/>
                </a:moveTo>
                <a:cubicBezTo>
                  <a:pt x="13974" y="12474"/>
                  <a:pt x="13989" y="12567"/>
                  <a:pt x="13965" y="12626"/>
                </a:cubicBezTo>
                <a:cubicBezTo>
                  <a:pt x="13957" y="12634"/>
                  <a:pt x="13948" y="12642"/>
                  <a:pt x="13940" y="12650"/>
                </a:cubicBezTo>
                <a:cubicBezTo>
                  <a:pt x="14025" y="12687"/>
                  <a:pt x="14172" y="12677"/>
                  <a:pt x="14263" y="12626"/>
                </a:cubicBezTo>
                <a:cubicBezTo>
                  <a:pt x="14263" y="12618"/>
                  <a:pt x="14263" y="12609"/>
                  <a:pt x="14263" y="12601"/>
                </a:cubicBezTo>
              </a:path>
              <a:path w="9278" h="3325">
                <a:moveTo>
                  <a:pt x="14288" y="12477"/>
                </a:moveTo>
                <a:cubicBezTo>
                  <a:pt x="14288" y="12469"/>
                  <a:pt x="14288" y="12460"/>
                  <a:pt x="14288" y="12452"/>
                </a:cubicBezTo>
                <a:cubicBezTo>
                  <a:pt x="14248" y="12465"/>
                  <a:pt x="14226" y="12549"/>
                  <a:pt x="14213" y="12601"/>
                </a:cubicBezTo>
                <a:cubicBezTo>
                  <a:pt x="14176" y="12746"/>
                  <a:pt x="14164" y="12829"/>
                  <a:pt x="14188" y="12973"/>
                </a:cubicBezTo>
                <a:cubicBezTo>
                  <a:pt x="14188" y="12981"/>
                  <a:pt x="14188" y="12990"/>
                  <a:pt x="14188" y="12998"/>
                </a:cubicBezTo>
              </a:path>
              <a:path w="9278" h="3325">
                <a:moveTo>
                  <a:pt x="13816" y="13097"/>
                </a:moveTo>
                <a:cubicBezTo>
                  <a:pt x="13919" y="13076"/>
                  <a:pt x="14031" y="13055"/>
                  <a:pt x="14139" y="13047"/>
                </a:cubicBezTo>
                <a:cubicBezTo>
                  <a:pt x="14236" y="13040"/>
                  <a:pt x="14338" y="13047"/>
                  <a:pt x="14436" y="13047"/>
                </a:cubicBezTo>
              </a:path>
              <a:path w="9278" h="3325">
                <a:moveTo>
                  <a:pt x="14337" y="13196"/>
                </a:moveTo>
                <a:cubicBezTo>
                  <a:pt x="14215" y="13196"/>
                  <a:pt x="14194" y="13269"/>
                  <a:pt x="14139" y="13370"/>
                </a:cubicBezTo>
                <a:cubicBezTo>
                  <a:pt x="14082" y="13474"/>
                  <a:pt x="14060" y="13604"/>
                  <a:pt x="14114" y="13717"/>
                </a:cubicBezTo>
                <a:cubicBezTo>
                  <a:pt x="14179" y="13852"/>
                  <a:pt x="14333" y="13830"/>
                  <a:pt x="14436" y="13742"/>
                </a:cubicBezTo>
                <a:cubicBezTo>
                  <a:pt x="14507" y="13682"/>
                  <a:pt x="14508" y="13591"/>
                  <a:pt x="14412" y="13568"/>
                </a:cubicBezTo>
                <a:cubicBezTo>
                  <a:pt x="14355" y="13555"/>
                  <a:pt x="14309" y="13637"/>
                  <a:pt x="14288" y="13692"/>
                </a:cubicBezTo>
                <a:cubicBezTo>
                  <a:pt x="14266" y="13750"/>
                  <a:pt x="14330" y="13795"/>
                  <a:pt x="14362" y="13816"/>
                </a:cubicBezTo>
              </a:path>
              <a:path w="9278" h="3325">
                <a:moveTo>
                  <a:pt x="14709" y="12650"/>
                </a:moveTo>
                <a:cubicBezTo>
                  <a:pt x="14811" y="12681"/>
                  <a:pt x="14879" y="12662"/>
                  <a:pt x="14982" y="12650"/>
                </a:cubicBezTo>
              </a:path>
              <a:path w="9278" h="3325">
                <a:moveTo>
                  <a:pt x="14908" y="12502"/>
                </a:moveTo>
                <a:lnTo>
                  <a:pt x="14908" y="12502"/>
                </a:lnTo>
              </a:path>
              <a:path w="9278" h="3325">
                <a:moveTo>
                  <a:pt x="14932" y="12948"/>
                </a:moveTo>
                <a:cubicBezTo>
                  <a:pt x="14932" y="12956"/>
                  <a:pt x="14932" y="12965"/>
                  <a:pt x="14932" y="12973"/>
                </a:cubicBezTo>
              </a:path>
              <a:path w="9278" h="3325">
                <a:moveTo>
                  <a:pt x="15379" y="12502"/>
                </a:moveTo>
                <a:cubicBezTo>
                  <a:pt x="15453" y="12507"/>
                  <a:pt x="15608" y="12493"/>
                  <a:pt x="15577" y="12626"/>
                </a:cubicBezTo>
                <a:cubicBezTo>
                  <a:pt x="15554" y="12724"/>
                  <a:pt x="15457" y="12912"/>
                  <a:pt x="15354" y="12948"/>
                </a:cubicBezTo>
                <a:cubicBezTo>
                  <a:pt x="15276" y="12975"/>
                  <a:pt x="15222" y="12912"/>
                  <a:pt x="15180" y="12898"/>
                </a:cubicBezTo>
                <a:cubicBezTo>
                  <a:pt x="15255" y="12812"/>
                  <a:pt x="15279" y="12819"/>
                  <a:pt x="15379" y="12874"/>
                </a:cubicBezTo>
                <a:cubicBezTo>
                  <a:pt x="15445" y="12911"/>
                  <a:pt x="15474" y="12970"/>
                  <a:pt x="15528" y="13022"/>
                </a:cubicBezTo>
              </a:path>
              <a:path w="9278" h="3325">
                <a:moveTo>
                  <a:pt x="14908" y="13494"/>
                </a:moveTo>
                <a:cubicBezTo>
                  <a:pt x="15007" y="13494"/>
                  <a:pt x="15106" y="13494"/>
                  <a:pt x="15205" y="13494"/>
                </a:cubicBezTo>
              </a:path>
              <a:path w="9278" h="3325">
                <a:moveTo>
                  <a:pt x="15032" y="13295"/>
                </a:moveTo>
                <a:lnTo>
                  <a:pt x="15032" y="13295"/>
                </a:lnTo>
              </a:path>
              <a:path w="9278" h="3325">
                <a:moveTo>
                  <a:pt x="14982" y="13643"/>
                </a:moveTo>
                <a:cubicBezTo>
                  <a:pt x="14982" y="13667"/>
                  <a:pt x="14982" y="13675"/>
                  <a:pt x="15007" y="13667"/>
                </a:cubicBezTo>
              </a:path>
              <a:path w="9278" h="3325">
                <a:moveTo>
                  <a:pt x="15553" y="13320"/>
                </a:moveTo>
                <a:cubicBezTo>
                  <a:pt x="15595" y="13339"/>
                  <a:pt x="15713" y="13384"/>
                  <a:pt x="15726" y="13444"/>
                </a:cubicBezTo>
                <a:cubicBezTo>
                  <a:pt x="15745" y="13534"/>
                  <a:pt x="15690" y="13621"/>
                  <a:pt x="15627" y="13667"/>
                </a:cubicBezTo>
                <a:cubicBezTo>
                  <a:pt x="15571" y="13708"/>
                  <a:pt x="15370" y="13773"/>
                  <a:pt x="15379" y="13643"/>
                </a:cubicBezTo>
                <a:cubicBezTo>
                  <a:pt x="15387" y="13626"/>
                  <a:pt x="15396" y="13610"/>
                  <a:pt x="15404" y="13593"/>
                </a:cubicBezTo>
                <a:cubicBezTo>
                  <a:pt x="15477" y="13569"/>
                  <a:pt x="15557" y="13612"/>
                  <a:pt x="15627" y="13667"/>
                </a:cubicBezTo>
                <a:cubicBezTo>
                  <a:pt x="15678" y="13718"/>
                  <a:pt x="15696" y="13734"/>
                  <a:pt x="15751" y="13717"/>
                </a:cubicBezTo>
              </a:path>
              <a:path w="9278" h="3325">
                <a:moveTo>
                  <a:pt x="16321" y="13097"/>
                </a:moveTo>
                <a:cubicBezTo>
                  <a:pt x="16363" y="13034"/>
                  <a:pt x="16516" y="13087"/>
                  <a:pt x="16594" y="13097"/>
                </a:cubicBezTo>
                <a:cubicBezTo>
                  <a:pt x="16602" y="13097"/>
                  <a:pt x="16611" y="13097"/>
                  <a:pt x="16619" y="13097"/>
                </a:cubicBezTo>
              </a:path>
              <a:path w="9278" h="3325">
                <a:moveTo>
                  <a:pt x="16371" y="13196"/>
                </a:moveTo>
                <a:cubicBezTo>
                  <a:pt x="16461" y="13241"/>
                  <a:pt x="16483" y="13261"/>
                  <a:pt x="16545" y="13221"/>
                </a:cubicBezTo>
              </a:path>
              <a:path w="9278" h="3325">
                <a:moveTo>
                  <a:pt x="16991" y="12576"/>
                </a:moveTo>
                <a:cubicBezTo>
                  <a:pt x="17085" y="12557"/>
                  <a:pt x="17089" y="12528"/>
                  <a:pt x="17190" y="12551"/>
                </a:cubicBezTo>
                <a:cubicBezTo>
                  <a:pt x="17264" y="12568"/>
                  <a:pt x="17392" y="12608"/>
                  <a:pt x="17413" y="12700"/>
                </a:cubicBezTo>
                <a:cubicBezTo>
                  <a:pt x="17438" y="12810"/>
                  <a:pt x="17398" y="12951"/>
                  <a:pt x="17289" y="12998"/>
                </a:cubicBezTo>
                <a:cubicBezTo>
                  <a:pt x="17219" y="13028"/>
                  <a:pt x="17060" y="13037"/>
                  <a:pt x="17041" y="12948"/>
                </a:cubicBezTo>
                <a:cubicBezTo>
                  <a:pt x="17041" y="12940"/>
                  <a:pt x="17041" y="12931"/>
                  <a:pt x="17041" y="12923"/>
                </a:cubicBezTo>
                <a:cubicBezTo>
                  <a:pt x="17135" y="12891"/>
                  <a:pt x="17189" y="12891"/>
                  <a:pt x="17264" y="12973"/>
                </a:cubicBezTo>
                <a:cubicBezTo>
                  <a:pt x="17331" y="13047"/>
                  <a:pt x="17422" y="13165"/>
                  <a:pt x="17462" y="13246"/>
                </a:cubicBezTo>
              </a:path>
              <a:path w="9278" h="3325">
                <a:moveTo>
                  <a:pt x="16991" y="13271"/>
                </a:moveTo>
                <a:cubicBezTo>
                  <a:pt x="17028" y="13234"/>
                  <a:pt x="17166" y="13257"/>
                  <a:pt x="17239" y="13271"/>
                </a:cubicBezTo>
                <a:cubicBezTo>
                  <a:pt x="17315" y="13286"/>
                  <a:pt x="17386" y="13306"/>
                  <a:pt x="17462" y="13320"/>
                </a:cubicBezTo>
                <a:cubicBezTo>
                  <a:pt x="17497" y="13327"/>
                  <a:pt x="17528" y="13338"/>
                  <a:pt x="17562" y="13345"/>
                </a:cubicBezTo>
              </a:path>
              <a:path w="9278" h="3325">
                <a:moveTo>
                  <a:pt x="17041" y="13543"/>
                </a:moveTo>
                <a:cubicBezTo>
                  <a:pt x="17093" y="13537"/>
                  <a:pt x="17331" y="13493"/>
                  <a:pt x="17314" y="13618"/>
                </a:cubicBezTo>
                <a:cubicBezTo>
                  <a:pt x="17301" y="13711"/>
                  <a:pt x="17180" y="13720"/>
                  <a:pt x="17115" y="13742"/>
                </a:cubicBezTo>
                <a:cubicBezTo>
                  <a:pt x="17107" y="13750"/>
                  <a:pt x="17098" y="13759"/>
                  <a:pt x="17090" y="13767"/>
                </a:cubicBezTo>
                <a:cubicBezTo>
                  <a:pt x="17151" y="13767"/>
                  <a:pt x="17201" y="13789"/>
                  <a:pt x="17239" y="13841"/>
                </a:cubicBezTo>
                <a:cubicBezTo>
                  <a:pt x="17300" y="13924"/>
                  <a:pt x="17245" y="13977"/>
                  <a:pt x="17165" y="14015"/>
                </a:cubicBezTo>
                <a:cubicBezTo>
                  <a:pt x="17103" y="14044"/>
                  <a:pt x="17019" y="14058"/>
                  <a:pt x="16966" y="14015"/>
                </a:cubicBezTo>
                <a:cubicBezTo>
                  <a:pt x="16930" y="13986"/>
                  <a:pt x="16942" y="13956"/>
                  <a:pt x="16942" y="13915"/>
                </a:cubicBezTo>
              </a:path>
              <a:path w="9278" h="3325">
                <a:moveTo>
                  <a:pt x="18976" y="12204"/>
                </a:moveTo>
                <a:cubicBezTo>
                  <a:pt x="19050" y="12092"/>
                  <a:pt x="19107" y="12033"/>
                  <a:pt x="19075" y="11881"/>
                </a:cubicBezTo>
                <a:cubicBezTo>
                  <a:pt x="19043" y="11727"/>
                  <a:pt x="18902" y="11522"/>
                  <a:pt x="18752" y="11460"/>
                </a:cubicBezTo>
                <a:cubicBezTo>
                  <a:pt x="18535" y="11371"/>
                  <a:pt x="18257" y="11381"/>
                  <a:pt x="18058" y="11509"/>
                </a:cubicBezTo>
                <a:cubicBezTo>
                  <a:pt x="17806" y="11672"/>
                  <a:pt x="17510" y="11982"/>
                  <a:pt x="17338" y="12229"/>
                </a:cubicBezTo>
                <a:cubicBezTo>
                  <a:pt x="17174" y="12465"/>
                  <a:pt x="17023" y="12754"/>
                  <a:pt x="16917" y="13022"/>
                </a:cubicBezTo>
                <a:cubicBezTo>
                  <a:pt x="16841" y="13213"/>
                  <a:pt x="16761" y="13373"/>
                  <a:pt x="16644" y="13543"/>
                </a:cubicBezTo>
                <a:cubicBezTo>
                  <a:pt x="16539" y="13696"/>
                  <a:pt x="16409" y="13903"/>
                  <a:pt x="16371" y="14089"/>
                </a:cubicBezTo>
                <a:cubicBezTo>
                  <a:pt x="16332" y="14278"/>
                  <a:pt x="16514" y="14421"/>
                  <a:pt x="16644" y="14511"/>
                </a:cubicBezTo>
                <a:cubicBezTo>
                  <a:pt x="16792" y="14614"/>
                  <a:pt x="17028" y="14738"/>
                  <a:pt x="17214" y="14734"/>
                </a:cubicBezTo>
                <a:cubicBezTo>
                  <a:pt x="17432" y="14729"/>
                  <a:pt x="17637" y="14604"/>
                  <a:pt x="17810" y="14486"/>
                </a:cubicBezTo>
                <a:cubicBezTo>
                  <a:pt x="18006" y="14352"/>
                  <a:pt x="18189" y="14154"/>
                  <a:pt x="18331" y="13965"/>
                </a:cubicBezTo>
                <a:cubicBezTo>
                  <a:pt x="18482" y="13763"/>
                  <a:pt x="18587" y="13540"/>
                  <a:pt x="18703" y="13320"/>
                </a:cubicBezTo>
                <a:cubicBezTo>
                  <a:pt x="18855" y="13031"/>
                  <a:pt x="18990" y="12750"/>
                  <a:pt x="19050" y="12427"/>
                </a:cubicBezTo>
                <a:cubicBezTo>
                  <a:pt x="19074" y="12300"/>
                  <a:pt x="19114" y="12179"/>
                  <a:pt x="19075" y="12055"/>
                </a:cubicBezTo>
                <a:cubicBezTo>
                  <a:pt x="19056" y="11995"/>
                  <a:pt x="19014" y="11968"/>
                  <a:pt x="19000" y="11906"/>
                </a:cubicBezTo>
                <a:cubicBezTo>
                  <a:pt x="19000" y="11873"/>
                  <a:pt x="19000" y="11857"/>
                  <a:pt x="19000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 Worksh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Unit 13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1 Ratio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Objective: To write and compare ratios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arison of two numb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Rati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ratios that have the same val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160640" y="6500880"/>
            <a:ext cx="9360" cy="9360"/>
          </a:xfrm>
          <a:custGeom>
            <a:avLst/>
            <a:gdLst/>
            <a:ahLst/>
            <a:rect l="l" t="t" r="r" b="b"/>
            <a:pathLst>
              <a:path w="25" h="26">
                <a:moveTo>
                  <a:pt x="3225" y="18083"/>
                </a:moveTo>
                <a:cubicBezTo>
                  <a:pt x="3249" y="18083"/>
                  <a:pt x="3257" y="18083"/>
                  <a:pt x="3249" y="180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73760" y="3571920"/>
            <a:ext cx="760320" cy="581040"/>
          </a:xfrm>
          <a:custGeom>
            <a:avLst/>
            <a:gdLst/>
            <a:ahLst/>
            <a:rect l="l" t="t" r="r" b="b"/>
            <a:pathLst>
              <a:path w="2110" h="1613">
                <a:moveTo>
                  <a:pt x="14387" y="10120"/>
                </a:moveTo>
                <a:cubicBezTo>
                  <a:pt x="14407" y="10043"/>
                  <a:pt x="14403" y="10041"/>
                  <a:pt x="14337" y="9971"/>
                </a:cubicBezTo>
                <a:cubicBezTo>
                  <a:pt x="14247" y="9876"/>
                  <a:pt x="14157" y="9957"/>
                  <a:pt x="14114" y="10071"/>
                </a:cubicBezTo>
                <a:cubicBezTo>
                  <a:pt x="14069" y="10190"/>
                  <a:pt x="14261" y="10224"/>
                  <a:pt x="14337" y="10220"/>
                </a:cubicBezTo>
                <a:cubicBezTo>
                  <a:pt x="14384" y="10218"/>
                  <a:pt x="14399" y="10118"/>
                  <a:pt x="14412" y="10096"/>
                </a:cubicBezTo>
                <a:cubicBezTo>
                  <a:pt x="14420" y="10088"/>
                  <a:pt x="14428" y="10079"/>
                  <a:pt x="14436" y="10071"/>
                </a:cubicBezTo>
                <a:cubicBezTo>
                  <a:pt x="14477" y="10085"/>
                  <a:pt x="14427" y="10239"/>
                  <a:pt x="14412" y="10294"/>
                </a:cubicBezTo>
                <a:cubicBezTo>
                  <a:pt x="14394" y="10359"/>
                  <a:pt x="14412" y="10389"/>
                  <a:pt x="14412" y="10468"/>
                </a:cubicBezTo>
              </a:path>
              <a:path w="2110" h="1613">
                <a:moveTo>
                  <a:pt x="13841" y="10815"/>
                </a:moveTo>
                <a:cubicBezTo>
                  <a:pt x="13999" y="10792"/>
                  <a:pt x="14163" y="10729"/>
                  <a:pt x="14337" y="10716"/>
                </a:cubicBezTo>
                <a:cubicBezTo>
                  <a:pt x="14513" y="10703"/>
                  <a:pt x="14595" y="10682"/>
                  <a:pt x="14759" y="10641"/>
                </a:cubicBezTo>
                <a:cubicBezTo>
                  <a:pt x="14792" y="10641"/>
                  <a:pt x="14808" y="10641"/>
                  <a:pt x="14833" y="10641"/>
                </a:cubicBezTo>
              </a:path>
              <a:path w="2110" h="1613">
                <a:moveTo>
                  <a:pt x="13816" y="11137"/>
                </a:moveTo>
                <a:cubicBezTo>
                  <a:pt x="13877" y="11218"/>
                  <a:pt x="13887" y="11212"/>
                  <a:pt x="13915" y="11336"/>
                </a:cubicBezTo>
                <a:cubicBezTo>
                  <a:pt x="13931" y="11406"/>
                  <a:pt x="13940" y="11462"/>
                  <a:pt x="13940" y="11534"/>
                </a:cubicBezTo>
              </a:path>
              <a:path w="2110" h="1613">
                <a:moveTo>
                  <a:pt x="14560" y="10939"/>
                </a:moveTo>
                <a:cubicBezTo>
                  <a:pt x="14675" y="11002"/>
                  <a:pt x="14716" y="11049"/>
                  <a:pt x="14660" y="11187"/>
                </a:cubicBezTo>
                <a:cubicBezTo>
                  <a:pt x="14613" y="11302"/>
                  <a:pt x="14453" y="11474"/>
                  <a:pt x="14312" y="11435"/>
                </a:cubicBezTo>
                <a:cubicBezTo>
                  <a:pt x="14263" y="11385"/>
                  <a:pt x="14247" y="11368"/>
                  <a:pt x="14213" y="11336"/>
                </a:cubicBezTo>
                <a:cubicBezTo>
                  <a:pt x="14267" y="11271"/>
                  <a:pt x="14339" y="11244"/>
                  <a:pt x="14436" y="11237"/>
                </a:cubicBezTo>
                <a:cubicBezTo>
                  <a:pt x="14572" y="11227"/>
                  <a:pt x="14694" y="11295"/>
                  <a:pt x="14808" y="11361"/>
                </a:cubicBezTo>
                <a:cubicBezTo>
                  <a:pt x="14866" y="11394"/>
                  <a:pt x="14895" y="11423"/>
                  <a:pt x="14957" y="11435"/>
                </a:cubicBezTo>
              </a:path>
              <a:path w="2110" h="1613">
                <a:moveTo>
                  <a:pt x="15602" y="10592"/>
                </a:moveTo>
                <a:cubicBezTo>
                  <a:pt x="15712" y="10567"/>
                  <a:pt x="15811" y="10567"/>
                  <a:pt x="15925" y="10567"/>
                </a:cubicBezTo>
              </a:path>
              <a:path w="2110" h="1613">
                <a:moveTo>
                  <a:pt x="15602" y="10790"/>
                </a:moveTo>
                <a:cubicBezTo>
                  <a:pt x="15721" y="10845"/>
                  <a:pt x="15796" y="10854"/>
                  <a:pt x="15925" y="108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43760" y="3527280"/>
            <a:ext cx="349200" cy="615960"/>
          </a:xfrm>
          <a:custGeom>
            <a:avLst/>
            <a:gdLst/>
            <a:ahLst/>
            <a:rect l="l" t="t" r="r" b="b"/>
            <a:pathLst>
              <a:path w="968" h="1712">
                <a:moveTo>
                  <a:pt x="17165" y="9847"/>
                </a:moveTo>
                <a:cubicBezTo>
                  <a:pt x="17225" y="9832"/>
                  <a:pt x="17294" y="9806"/>
                  <a:pt x="17363" y="9798"/>
                </a:cubicBezTo>
                <a:cubicBezTo>
                  <a:pt x="17441" y="9789"/>
                  <a:pt x="17498" y="9807"/>
                  <a:pt x="17562" y="9823"/>
                </a:cubicBezTo>
                <a:cubicBezTo>
                  <a:pt x="17532" y="9981"/>
                  <a:pt x="17490" y="10012"/>
                  <a:pt x="17363" y="10120"/>
                </a:cubicBezTo>
                <a:cubicBezTo>
                  <a:pt x="17449" y="10120"/>
                  <a:pt x="17560" y="10096"/>
                  <a:pt x="17636" y="10145"/>
                </a:cubicBezTo>
                <a:cubicBezTo>
                  <a:pt x="17692" y="10182"/>
                  <a:pt x="17738" y="10250"/>
                  <a:pt x="17711" y="10319"/>
                </a:cubicBezTo>
                <a:cubicBezTo>
                  <a:pt x="17701" y="10346"/>
                  <a:pt x="17614" y="10419"/>
                  <a:pt x="17587" y="10418"/>
                </a:cubicBezTo>
                <a:cubicBezTo>
                  <a:pt x="17535" y="10416"/>
                  <a:pt x="17339" y="10367"/>
                  <a:pt x="17289" y="10344"/>
                </a:cubicBezTo>
                <a:cubicBezTo>
                  <a:pt x="17289" y="10336"/>
                  <a:pt x="17289" y="10327"/>
                  <a:pt x="17289" y="10319"/>
                </a:cubicBezTo>
              </a:path>
              <a:path w="968" h="1712">
                <a:moveTo>
                  <a:pt x="17066" y="10641"/>
                </a:moveTo>
                <a:cubicBezTo>
                  <a:pt x="17252" y="10641"/>
                  <a:pt x="17426" y="10606"/>
                  <a:pt x="17611" y="10592"/>
                </a:cubicBezTo>
                <a:cubicBezTo>
                  <a:pt x="17737" y="10583"/>
                  <a:pt x="17857" y="10616"/>
                  <a:pt x="17983" y="10616"/>
                </a:cubicBezTo>
                <a:cubicBezTo>
                  <a:pt x="18008" y="10616"/>
                  <a:pt x="18016" y="10616"/>
                  <a:pt x="18033" y="10616"/>
                </a:cubicBezTo>
              </a:path>
              <a:path w="968" h="1712">
                <a:moveTo>
                  <a:pt x="17239" y="10864"/>
                </a:moveTo>
                <a:cubicBezTo>
                  <a:pt x="17239" y="10955"/>
                  <a:pt x="17239" y="11046"/>
                  <a:pt x="17239" y="11137"/>
                </a:cubicBezTo>
                <a:cubicBezTo>
                  <a:pt x="17374" y="11137"/>
                  <a:pt x="17505" y="11146"/>
                  <a:pt x="17636" y="11112"/>
                </a:cubicBezTo>
                <a:cubicBezTo>
                  <a:pt x="17697" y="11092"/>
                  <a:pt x="17712" y="11095"/>
                  <a:pt x="17735" y="11063"/>
                </a:cubicBezTo>
              </a:path>
              <a:path w="968" h="1712">
                <a:moveTo>
                  <a:pt x="17735" y="10840"/>
                </a:moveTo>
                <a:cubicBezTo>
                  <a:pt x="17735" y="10951"/>
                  <a:pt x="17750" y="11054"/>
                  <a:pt x="17760" y="11162"/>
                </a:cubicBezTo>
                <a:cubicBezTo>
                  <a:pt x="17768" y="11242"/>
                  <a:pt x="17737" y="11362"/>
                  <a:pt x="17711" y="11435"/>
                </a:cubicBezTo>
                <a:cubicBezTo>
                  <a:pt x="17692" y="11490"/>
                  <a:pt x="17663" y="11494"/>
                  <a:pt x="17711" y="115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There are 3 ways to write ratios: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to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: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73200" y="4083120"/>
          <a:ext cx="27936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083120"/>
                    <a:ext cx="27936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95240" y="2125800"/>
            <a:ext cx="419040" cy="803160"/>
          </a:xfrm>
          <a:custGeom>
            <a:avLst/>
            <a:gdLst/>
            <a:ahLst/>
            <a:rect l="l" t="t" r="r" b="b"/>
            <a:pathLst>
              <a:path w="1166" h="2233">
                <a:moveTo>
                  <a:pt x="2877" y="6003"/>
                </a:moveTo>
                <a:cubicBezTo>
                  <a:pt x="2813" y="6003"/>
                  <a:pt x="3200" y="5934"/>
                  <a:pt x="3225" y="5928"/>
                </a:cubicBezTo>
                <a:cubicBezTo>
                  <a:pt x="3293" y="5911"/>
                  <a:pt x="3315" y="5904"/>
                  <a:pt x="3373" y="5904"/>
                </a:cubicBezTo>
              </a:path>
              <a:path w="1166" h="2233">
                <a:moveTo>
                  <a:pt x="3076" y="6350"/>
                </a:moveTo>
                <a:cubicBezTo>
                  <a:pt x="3100" y="6344"/>
                  <a:pt x="3153" y="6337"/>
                  <a:pt x="3175" y="6325"/>
                </a:cubicBezTo>
                <a:cubicBezTo>
                  <a:pt x="3232" y="6293"/>
                  <a:pt x="3292" y="6282"/>
                  <a:pt x="3349" y="6251"/>
                </a:cubicBezTo>
                <a:cubicBezTo>
                  <a:pt x="3357" y="6243"/>
                  <a:pt x="3365" y="6234"/>
                  <a:pt x="3373" y="6226"/>
                </a:cubicBezTo>
              </a:path>
              <a:path w="1166" h="2233">
                <a:moveTo>
                  <a:pt x="3076" y="6623"/>
                </a:moveTo>
                <a:cubicBezTo>
                  <a:pt x="3175" y="6623"/>
                  <a:pt x="3274" y="6623"/>
                  <a:pt x="3373" y="6623"/>
                </a:cubicBezTo>
              </a:path>
              <a:path w="1166" h="2233">
                <a:moveTo>
                  <a:pt x="3150" y="6995"/>
                </a:moveTo>
                <a:cubicBezTo>
                  <a:pt x="3079" y="7066"/>
                  <a:pt x="3029" y="7153"/>
                  <a:pt x="2952" y="7218"/>
                </a:cubicBezTo>
                <a:cubicBezTo>
                  <a:pt x="2874" y="7284"/>
                  <a:pt x="2794" y="7321"/>
                  <a:pt x="2729" y="7392"/>
                </a:cubicBezTo>
                <a:cubicBezTo>
                  <a:pt x="2642" y="7488"/>
                  <a:pt x="2554" y="7582"/>
                  <a:pt x="2480" y="7689"/>
                </a:cubicBezTo>
                <a:cubicBezTo>
                  <a:pt x="2431" y="7759"/>
                  <a:pt x="2378" y="7852"/>
                  <a:pt x="2332" y="7913"/>
                </a:cubicBezTo>
                <a:cubicBezTo>
                  <a:pt x="2308" y="7945"/>
                  <a:pt x="2307" y="7956"/>
                  <a:pt x="2282" y="7987"/>
                </a:cubicBezTo>
                <a:cubicBezTo>
                  <a:pt x="2255" y="7945"/>
                  <a:pt x="2230" y="7887"/>
                  <a:pt x="2208" y="7838"/>
                </a:cubicBezTo>
                <a:cubicBezTo>
                  <a:pt x="2227" y="7896"/>
                  <a:pt x="2234" y="7983"/>
                  <a:pt x="2257" y="8037"/>
                </a:cubicBezTo>
                <a:cubicBezTo>
                  <a:pt x="2273" y="8074"/>
                  <a:pt x="2270" y="8120"/>
                  <a:pt x="2307" y="8136"/>
                </a:cubicBezTo>
                <a:cubicBezTo>
                  <a:pt x="2390" y="8171"/>
                  <a:pt x="2459" y="8058"/>
                  <a:pt x="2505" y="8012"/>
                </a:cubicBezTo>
                <a:cubicBezTo>
                  <a:pt x="2563" y="7954"/>
                  <a:pt x="2616" y="7899"/>
                  <a:pt x="2654" y="7838"/>
                </a:cubicBezTo>
                <a:cubicBezTo>
                  <a:pt x="2679" y="7838"/>
                  <a:pt x="2687" y="7838"/>
                  <a:pt x="2654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3375000"/>
            <a:ext cx="1508040" cy="1108080"/>
          </a:xfrm>
          <a:custGeom>
            <a:avLst/>
            <a:gdLst/>
            <a:ahLst/>
            <a:rect l="l" t="t" r="r" b="b"/>
            <a:pathLst>
              <a:path w="4193" h="3077">
                <a:moveTo>
                  <a:pt x="2753" y="9376"/>
                </a:moveTo>
                <a:cubicBezTo>
                  <a:pt x="2720" y="9376"/>
                  <a:pt x="2704" y="9376"/>
                  <a:pt x="2679" y="9376"/>
                </a:cubicBezTo>
                <a:cubicBezTo>
                  <a:pt x="2712" y="9443"/>
                  <a:pt x="2705" y="9483"/>
                  <a:pt x="2778" y="9525"/>
                </a:cubicBezTo>
                <a:cubicBezTo>
                  <a:pt x="2887" y="9587"/>
                  <a:pt x="3081" y="9591"/>
                  <a:pt x="3200" y="9575"/>
                </a:cubicBezTo>
                <a:cubicBezTo>
                  <a:pt x="3320" y="9559"/>
                  <a:pt x="3424" y="9550"/>
                  <a:pt x="3547" y="9550"/>
                </a:cubicBezTo>
                <a:cubicBezTo>
                  <a:pt x="3692" y="9550"/>
                  <a:pt x="3829" y="9546"/>
                  <a:pt x="3969" y="9575"/>
                </a:cubicBezTo>
                <a:cubicBezTo>
                  <a:pt x="4127" y="9608"/>
                  <a:pt x="4284" y="9599"/>
                  <a:pt x="4440" y="9649"/>
                </a:cubicBezTo>
                <a:cubicBezTo>
                  <a:pt x="4577" y="9693"/>
                  <a:pt x="4701" y="9711"/>
                  <a:pt x="4837" y="9748"/>
                </a:cubicBezTo>
                <a:cubicBezTo>
                  <a:pt x="4926" y="9772"/>
                  <a:pt x="5041" y="9806"/>
                  <a:pt x="5110" y="9872"/>
                </a:cubicBezTo>
                <a:cubicBezTo>
                  <a:pt x="5164" y="9924"/>
                  <a:pt x="5206" y="9990"/>
                  <a:pt x="5259" y="10046"/>
                </a:cubicBezTo>
                <a:cubicBezTo>
                  <a:pt x="5344" y="10135"/>
                  <a:pt x="5337" y="10162"/>
                  <a:pt x="5383" y="10269"/>
                </a:cubicBezTo>
                <a:cubicBezTo>
                  <a:pt x="5405" y="10292"/>
                  <a:pt x="5413" y="10297"/>
                  <a:pt x="5407" y="10319"/>
                </a:cubicBezTo>
                <a:cubicBezTo>
                  <a:pt x="5259" y="10312"/>
                  <a:pt x="5195" y="10289"/>
                  <a:pt x="5060" y="10244"/>
                </a:cubicBezTo>
                <a:cubicBezTo>
                  <a:pt x="5052" y="10244"/>
                  <a:pt x="5043" y="10244"/>
                  <a:pt x="5035" y="10244"/>
                </a:cubicBezTo>
                <a:cubicBezTo>
                  <a:pt x="5101" y="10277"/>
                  <a:pt x="5250" y="10388"/>
                  <a:pt x="5333" y="10368"/>
                </a:cubicBezTo>
                <a:cubicBezTo>
                  <a:pt x="5450" y="10339"/>
                  <a:pt x="5532" y="10221"/>
                  <a:pt x="5606" y="10120"/>
                </a:cubicBezTo>
                <a:cubicBezTo>
                  <a:pt x="5649" y="10055"/>
                  <a:pt x="5660" y="10040"/>
                  <a:pt x="5680" y="9996"/>
                </a:cubicBezTo>
              </a:path>
              <a:path w="4193" h="3077">
                <a:moveTo>
                  <a:pt x="5457" y="10889"/>
                </a:moveTo>
                <a:cubicBezTo>
                  <a:pt x="5457" y="10998"/>
                  <a:pt x="5479" y="11102"/>
                  <a:pt x="5482" y="11212"/>
                </a:cubicBezTo>
                <a:cubicBezTo>
                  <a:pt x="5482" y="11295"/>
                  <a:pt x="5482" y="11311"/>
                  <a:pt x="5482" y="11361"/>
                </a:cubicBezTo>
              </a:path>
              <a:path w="4193" h="3077">
                <a:moveTo>
                  <a:pt x="6176" y="10765"/>
                </a:moveTo>
                <a:cubicBezTo>
                  <a:pt x="6169" y="10860"/>
                  <a:pt x="6153" y="10945"/>
                  <a:pt x="6127" y="11038"/>
                </a:cubicBezTo>
                <a:cubicBezTo>
                  <a:pt x="6053" y="11307"/>
                  <a:pt x="5969" y="11578"/>
                  <a:pt x="5854" y="11832"/>
                </a:cubicBezTo>
                <a:cubicBezTo>
                  <a:pt x="5802" y="11948"/>
                  <a:pt x="5705" y="12070"/>
                  <a:pt x="5705" y="12204"/>
                </a:cubicBezTo>
                <a:cubicBezTo>
                  <a:pt x="5705" y="12232"/>
                  <a:pt x="5707" y="12238"/>
                  <a:pt x="5730" y="12204"/>
                </a:cubicBezTo>
              </a:path>
              <a:path w="4193" h="3077">
                <a:moveTo>
                  <a:pt x="6325" y="11633"/>
                </a:moveTo>
                <a:cubicBezTo>
                  <a:pt x="6452" y="11595"/>
                  <a:pt x="6545" y="11564"/>
                  <a:pt x="6672" y="11584"/>
                </a:cubicBezTo>
                <a:cubicBezTo>
                  <a:pt x="6655" y="11754"/>
                  <a:pt x="6560" y="11792"/>
                  <a:pt x="6474" y="11931"/>
                </a:cubicBezTo>
                <a:cubicBezTo>
                  <a:pt x="6474" y="11939"/>
                  <a:pt x="6474" y="11948"/>
                  <a:pt x="6474" y="11956"/>
                </a:cubicBezTo>
                <a:cubicBezTo>
                  <a:pt x="6592" y="11926"/>
                  <a:pt x="6735" y="11865"/>
                  <a:pt x="6846" y="11956"/>
                </a:cubicBezTo>
                <a:cubicBezTo>
                  <a:pt x="6909" y="12008"/>
                  <a:pt x="6851" y="12220"/>
                  <a:pt x="6821" y="12278"/>
                </a:cubicBezTo>
                <a:cubicBezTo>
                  <a:pt x="6757" y="12403"/>
                  <a:pt x="6664" y="12468"/>
                  <a:pt x="6524" y="12452"/>
                </a:cubicBezTo>
                <a:cubicBezTo>
                  <a:pt x="6449" y="12443"/>
                  <a:pt x="6385" y="12417"/>
                  <a:pt x="6325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3640" y="4500720"/>
            <a:ext cx="831600" cy="223560"/>
          </a:xfrm>
          <a:custGeom>
            <a:avLst/>
            <a:gdLst/>
            <a:ahLst/>
            <a:rect l="l" t="t" r="r" b="b"/>
            <a:pathLst>
              <a:path w="2308" h="621">
                <a:moveTo>
                  <a:pt x="5432" y="12526"/>
                </a:moveTo>
                <a:cubicBezTo>
                  <a:pt x="5346" y="12485"/>
                  <a:pt x="5325" y="12572"/>
                  <a:pt x="5234" y="12601"/>
                </a:cubicBezTo>
                <a:cubicBezTo>
                  <a:pt x="5060" y="12658"/>
                  <a:pt x="4846" y="12707"/>
                  <a:pt x="4663" y="12725"/>
                </a:cubicBezTo>
                <a:cubicBezTo>
                  <a:pt x="4509" y="12740"/>
                  <a:pt x="4346" y="12746"/>
                  <a:pt x="4192" y="12750"/>
                </a:cubicBezTo>
                <a:cubicBezTo>
                  <a:pt x="3966" y="12755"/>
                  <a:pt x="3744" y="12747"/>
                  <a:pt x="3522" y="12725"/>
                </a:cubicBezTo>
                <a:cubicBezTo>
                  <a:pt x="3417" y="12715"/>
                  <a:pt x="3306" y="12725"/>
                  <a:pt x="3200" y="12725"/>
                </a:cubicBezTo>
                <a:cubicBezTo>
                  <a:pt x="3253" y="12676"/>
                  <a:pt x="3326" y="12598"/>
                  <a:pt x="3373" y="12576"/>
                </a:cubicBezTo>
                <a:cubicBezTo>
                  <a:pt x="3381" y="12576"/>
                  <a:pt x="3390" y="12576"/>
                  <a:pt x="3398" y="12576"/>
                </a:cubicBezTo>
                <a:cubicBezTo>
                  <a:pt x="3340" y="12634"/>
                  <a:pt x="3303" y="12639"/>
                  <a:pt x="3249" y="12700"/>
                </a:cubicBezTo>
                <a:cubicBezTo>
                  <a:pt x="3232" y="12719"/>
                  <a:pt x="3160" y="12799"/>
                  <a:pt x="3150" y="12824"/>
                </a:cubicBezTo>
                <a:cubicBezTo>
                  <a:pt x="3136" y="12859"/>
                  <a:pt x="3153" y="12901"/>
                  <a:pt x="3175" y="12923"/>
                </a:cubicBezTo>
                <a:cubicBezTo>
                  <a:pt x="3216" y="12964"/>
                  <a:pt x="3337" y="13020"/>
                  <a:pt x="3398" y="13047"/>
                </a:cubicBezTo>
                <a:cubicBezTo>
                  <a:pt x="3434" y="13063"/>
                  <a:pt x="3536" y="13118"/>
                  <a:pt x="3547" y="13122"/>
                </a:cubicBezTo>
                <a:cubicBezTo>
                  <a:pt x="3555" y="13122"/>
                  <a:pt x="3564" y="13122"/>
                  <a:pt x="3572" y="131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Ratios in Simplest Form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 1.) 15 to 1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 2.) 8:1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 3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981080" y="3809880"/>
          <a:ext cx="45720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809880"/>
                    <a:ext cx="457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017960" y="1204920"/>
            <a:ext cx="2233440" cy="1312920"/>
          </a:xfrm>
          <a:custGeom>
            <a:avLst/>
            <a:gdLst/>
            <a:ahLst/>
            <a:rect l="l" t="t" r="r" b="b"/>
            <a:pathLst>
              <a:path w="6202" h="3647">
                <a:moveTo>
                  <a:pt x="11410" y="4093"/>
                </a:moveTo>
                <a:cubicBezTo>
                  <a:pt x="11431" y="4195"/>
                  <a:pt x="11452" y="4307"/>
                  <a:pt x="11460" y="4415"/>
                </a:cubicBezTo>
                <a:cubicBezTo>
                  <a:pt x="11460" y="4489"/>
                  <a:pt x="11460" y="4498"/>
                  <a:pt x="11460" y="4539"/>
                </a:cubicBezTo>
              </a:path>
              <a:path w="6202" h="3647">
                <a:moveTo>
                  <a:pt x="11683" y="4068"/>
                </a:moveTo>
                <a:cubicBezTo>
                  <a:pt x="11748" y="4090"/>
                  <a:pt x="11714" y="4156"/>
                  <a:pt x="11708" y="4217"/>
                </a:cubicBezTo>
                <a:cubicBezTo>
                  <a:pt x="11708" y="4233"/>
                  <a:pt x="11708" y="4250"/>
                  <a:pt x="11708" y="4266"/>
                </a:cubicBezTo>
                <a:cubicBezTo>
                  <a:pt x="11841" y="4285"/>
                  <a:pt x="11979" y="4316"/>
                  <a:pt x="12105" y="4366"/>
                </a:cubicBezTo>
                <a:cubicBezTo>
                  <a:pt x="12240" y="4419"/>
                  <a:pt x="12311" y="4513"/>
                  <a:pt x="12229" y="4663"/>
                </a:cubicBezTo>
                <a:cubicBezTo>
                  <a:pt x="12133" y="4838"/>
                  <a:pt x="12025" y="4705"/>
                  <a:pt x="11931" y="4638"/>
                </a:cubicBezTo>
              </a:path>
              <a:path w="6202" h="3647">
                <a:moveTo>
                  <a:pt x="11906" y="4043"/>
                </a:moveTo>
                <a:cubicBezTo>
                  <a:pt x="11957" y="4030"/>
                  <a:pt x="11993" y="4001"/>
                  <a:pt x="12055" y="3994"/>
                </a:cubicBezTo>
                <a:cubicBezTo>
                  <a:pt x="12168" y="3981"/>
                  <a:pt x="12271" y="4004"/>
                  <a:pt x="12378" y="4018"/>
                </a:cubicBezTo>
                <a:cubicBezTo>
                  <a:pt x="12394" y="4018"/>
                  <a:pt x="12411" y="4018"/>
                  <a:pt x="12427" y="4018"/>
                </a:cubicBezTo>
              </a:path>
              <a:path w="6202" h="3647">
                <a:moveTo>
                  <a:pt x="11162" y="5011"/>
                </a:moveTo>
                <a:cubicBezTo>
                  <a:pt x="11319" y="4980"/>
                  <a:pt x="11493" y="4976"/>
                  <a:pt x="11658" y="4961"/>
                </a:cubicBezTo>
                <a:cubicBezTo>
                  <a:pt x="11843" y="4944"/>
                  <a:pt x="12019" y="4936"/>
                  <a:pt x="12204" y="4936"/>
                </a:cubicBezTo>
              </a:path>
              <a:path w="6202" h="3647">
                <a:moveTo>
                  <a:pt x="11559" y="5234"/>
                </a:moveTo>
                <a:cubicBezTo>
                  <a:pt x="11483" y="5348"/>
                  <a:pt x="11470" y="5519"/>
                  <a:pt x="11460" y="5655"/>
                </a:cubicBezTo>
                <a:cubicBezTo>
                  <a:pt x="11455" y="5732"/>
                  <a:pt x="11433" y="6007"/>
                  <a:pt x="11435" y="6003"/>
                </a:cubicBezTo>
                <a:cubicBezTo>
                  <a:pt x="11443" y="5986"/>
                  <a:pt x="11452" y="5970"/>
                  <a:pt x="11460" y="5953"/>
                </a:cubicBezTo>
              </a:path>
              <a:path w="6202" h="3647">
                <a:moveTo>
                  <a:pt x="12105" y="5581"/>
                </a:moveTo>
                <a:cubicBezTo>
                  <a:pt x="12241" y="5638"/>
                  <a:pt x="12327" y="5696"/>
                  <a:pt x="12353" y="5854"/>
                </a:cubicBezTo>
                <a:cubicBezTo>
                  <a:pt x="12383" y="6036"/>
                  <a:pt x="12154" y="6124"/>
                  <a:pt x="12005" y="6127"/>
                </a:cubicBezTo>
                <a:cubicBezTo>
                  <a:pt x="11838" y="6131"/>
                  <a:pt x="11804" y="5925"/>
                  <a:pt x="11857" y="5804"/>
                </a:cubicBezTo>
                <a:cubicBezTo>
                  <a:pt x="11929" y="5638"/>
                  <a:pt x="12077" y="5589"/>
                  <a:pt x="12204" y="5482"/>
                </a:cubicBezTo>
                <a:cubicBezTo>
                  <a:pt x="12275" y="5422"/>
                  <a:pt x="12375" y="5313"/>
                  <a:pt x="12353" y="5209"/>
                </a:cubicBezTo>
                <a:cubicBezTo>
                  <a:pt x="12336" y="5128"/>
                  <a:pt x="12227" y="5072"/>
                  <a:pt x="12154" y="5060"/>
                </a:cubicBezTo>
                <a:cubicBezTo>
                  <a:pt x="12104" y="5052"/>
                  <a:pt x="11945" y="5052"/>
                  <a:pt x="11906" y="5085"/>
                </a:cubicBezTo>
                <a:cubicBezTo>
                  <a:pt x="11852" y="5131"/>
                  <a:pt x="11821" y="5217"/>
                  <a:pt x="11807" y="5283"/>
                </a:cubicBezTo>
                <a:cubicBezTo>
                  <a:pt x="11793" y="5348"/>
                  <a:pt x="11841" y="5433"/>
                  <a:pt x="11881" y="5482"/>
                </a:cubicBezTo>
                <a:cubicBezTo>
                  <a:pt x="11936" y="5549"/>
                  <a:pt x="12003" y="5586"/>
                  <a:pt x="12055" y="5655"/>
                </a:cubicBezTo>
                <a:cubicBezTo>
                  <a:pt x="12080" y="5688"/>
                  <a:pt x="12114" y="5714"/>
                  <a:pt x="12129" y="5730"/>
                </a:cubicBezTo>
              </a:path>
              <a:path w="6202" h="3647">
                <a:moveTo>
                  <a:pt x="12874" y="4440"/>
                </a:moveTo>
                <a:cubicBezTo>
                  <a:pt x="12970" y="4421"/>
                  <a:pt x="13167" y="4405"/>
                  <a:pt x="13221" y="4366"/>
                </a:cubicBezTo>
              </a:path>
              <a:path w="6202" h="3647">
                <a:moveTo>
                  <a:pt x="12973" y="4192"/>
                </a:moveTo>
                <a:lnTo>
                  <a:pt x="12973" y="4192"/>
                </a:lnTo>
              </a:path>
              <a:path w="6202" h="3647">
                <a:moveTo>
                  <a:pt x="13072" y="4787"/>
                </a:moveTo>
                <a:cubicBezTo>
                  <a:pt x="13109" y="4815"/>
                  <a:pt x="13108" y="4829"/>
                  <a:pt x="13122" y="4787"/>
                </a:cubicBezTo>
              </a:path>
              <a:path w="6202" h="3647">
                <a:moveTo>
                  <a:pt x="13717" y="4316"/>
                </a:moveTo>
                <a:cubicBezTo>
                  <a:pt x="13827" y="4353"/>
                  <a:pt x="13646" y="4486"/>
                  <a:pt x="13618" y="4514"/>
                </a:cubicBezTo>
                <a:cubicBezTo>
                  <a:pt x="13593" y="4539"/>
                  <a:pt x="13568" y="4564"/>
                  <a:pt x="13543" y="4589"/>
                </a:cubicBezTo>
                <a:cubicBezTo>
                  <a:pt x="13638" y="4589"/>
                  <a:pt x="13822" y="4568"/>
                  <a:pt x="13841" y="4713"/>
                </a:cubicBezTo>
                <a:cubicBezTo>
                  <a:pt x="13847" y="4760"/>
                  <a:pt x="13787" y="4936"/>
                  <a:pt x="13717" y="4936"/>
                </a:cubicBezTo>
                <a:cubicBezTo>
                  <a:pt x="13639" y="4910"/>
                  <a:pt x="13612" y="4899"/>
                  <a:pt x="13568" y="4862"/>
                </a:cubicBezTo>
              </a:path>
              <a:path w="6202" h="3647">
                <a:moveTo>
                  <a:pt x="14436" y="4638"/>
                </a:moveTo>
                <a:cubicBezTo>
                  <a:pt x="14564" y="4638"/>
                  <a:pt x="14687" y="4638"/>
                  <a:pt x="14808" y="4614"/>
                </a:cubicBezTo>
                <a:cubicBezTo>
                  <a:pt x="14816" y="4614"/>
                  <a:pt x="14825" y="4614"/>
                  <a:pt x="14833" y="4614"/>
                </a:cubicBezTo>
              </a:path>
              <a:path w="6202" h="3647">
                <a:moveTo>
                  <a:pt x="14362" y="5209"/>
                </a:moveTo>
                <a:cubicBezTo>
                  <a:pt x="14526" y="5209"/>
                  <a:pt x="14672" y="5175"/>
                  <a:pt x="14833" y="5159"/>
                </a:cubicBezTo>
                <a:cubicBezTo>
                  <a:pt x="14875" y="5155"/>
                  <a:pt x="15042" y="5160"/>
                  <a:pt x="15081" y="5135"/>
                </a:cubicBezTo>
                <a:cubicBezTo>
                  <a:pt x="15081" y="5107"/>
                  <a:pt x="15083" y="5096"/>
                  <a:pt x="15106" y="5085"/>
                </a:cubicBezTo>
              </a:path>
              <a:path w="6202" h="3647">
                <a:moveTo>
                  <a:pt x="16024" y="4018"/>
                </a:moveTo>
                <a:cubicBezTo>
                  <a:pt x="16009" y="4091"/>
                  <a:pt x="15995" y="4198"/>
                  <a:pt x="15974" y="4266"/>
                </a:cubicBezTo>
                <a:cubicBezTo>
                  <a:pt x="15951" y="4344"/>
                  <a:pt x="15942" y="4306"/>
                  <a:pt x="16073" y="4341"/>
                </a:cubicBezTo>
                <a:cubicBezTo>
                  <a:pt x="16178" y="4369"/>
                  <a:pt x="16415" y="4396"/>
                  <a:pt x="16446" y="4539"/>
                </a:cubicBezTo>
                <a:cubicBezTo>
                  <a:pt x="16475" y="4671"/>
                  <a:pt x="16363" y="4777"/>
                  <a:pt x="16247" y="4812"/>
                </a:cubicBezTo>
                <a:cubicBezTo>
                  <a:pt x="16095" y="4858"/>
                  <a:pt x="16114" y="4726"/>
                  <a:pt x="16098" y="4638"/>
                </a:cubicBezTo>
              </a:path>
              <a:path w="6202" h="3647">
                <a:moveTo>
                  <a:pt x="16073" y="3894"/>
                </a:moveTo>
                <a:cubicBezTo>
                  <a:pt x="16242" y="3894"/>
                  <a:pt x="16404" y="3891"/>
                  <a:pt x="16570" y="3870"/>
                </a:cubicBezTo>
                <a:cubicBezTo>
                  <a:pt x="16610" y="3865"/>
                  <a:pt x="16609" y="3864"/>
                  <a:pt x="16619" y="3894"/>
                </a:cubicBezTo>
              </a:path>
              <a:path w="6202" h="3647">
                <a:moveTo>
                  <a:pt x="15528" y="5085"/>
                </a:moveTo>
                <a:cubicBezTo>
                  <a:pt x="15747" y="5085"/>
                  <a:pt x="15956" y="5048"/>
                  <a:pt x="16173" y="5035"/>
                </a:cubicBezTo>
                <a:cubicBezTo>
                  <a:pt x="16347" y="5025"/>
                  <a:pt x="16519" y="5011"/>
                  <a:pt x="16694" y="5011"/>
                </a:cubicBezTo>
                <a:cubicBezTo>
                  <a:pt x="16727" y="5011"/>
                  <a:pt x="16760" y="5011"/>
                  <a:pt x="16793" y="5011"/>
                </a:cubicBezTo>
              </a:path>
              <a:path w="6202" h="3647">
                <a:moveTo>
                  <a:pt x="16123" y="5234"/>
                </a:moveTo>
                <a:cubicBezTo>
                  <a:pt x="16039" y="5251"/>
                  <a:pt x="15951" y="5310"/>
                  <a:pt x="15900" y="5383"/>
                </a:cubicBezTo>
                <a:cubicBezTo>
                  <a:pt x="15780" y="5555"/>
                  <a:pt x="15619" y="5803"/>
                  <a:pt x="15677" y="6028"/>
                </a:cubicBezTo>
                <a:cubicBezTo>
                  <a:pt x="15721" y="6197"/>
                  <a:pt x="15904" y="6363"/>
                  <a:pt x="16073" y="6251"/>
                </a:cubicBezTo>
                <a:cubicBezTo>
                  <a:pt x="16187" y="6176"/>
                  <a:pt x="16240" y="6072"/>
                  <a:pt x="16272" y="5953"/>
                </a:cubicBezTo>
                <a:cubicBezTo>
                  <a:pt x="16135" y="5942"/>
                  <a:pt x="16064" y="5999"/>
                  <a:pt x="16024" y="6152"/>
                </a:cubicBezTo>
                <a:cubicBezTo>
                  <a:pt x="16024" y="6218"/>
                  <a:pt x="16041" y="6234"/>
                  <a:pt x="16123" y="6201"/>
                </a:cubicBezTo>
              </a:path>
              <a:path w="6202" h="3647">
                <a:moveTo>
                  <a:pt x="17363" y="4142"/>
                </a:moveTo>
                <a:cubicBezTo>
                  <a:pt x="17338" y="4084"/>
                  <a:pt x="17310" y="4026"/>
                  <a:pt x="17289" y="3969"/>
                </a:cubicBezTo>
                <a:cubicBezTo>
                  <a:pt x="17278" y="3939"/>
                  <a:pt x="17280" y="3931"/>
                  <a:pt x="17264" y="3894"/>
                </a:cubicBezTo>
                <a:cubicBezTo>
                  <a:pt x="17245" y="3850"/>
                  <a:pt x="17214" y="3813"/>
                  <a:pt x="17190" y="3770"/>
                </a:cubicBezTo>
                <a:cubicBezTo>
                  <a:pt x="17178" y="3749"/>
                  <a:pt x="17169" y="3700"/>
                  <a:pt x="17140" y="3671"/>
                </a:cubicBezTo>
                <a:cubicBezTo>
                  <a:pt x="17101" y="3632"/>
                  <a:pt x="17057" y="3586"/>
                  <a:pt x="17016" y="3547"/>
                </a:cubicBezTo>
                <a:cubicBezTo>
                  <a:pt x="16970" y="3504"/>
                  <a:pt x="16930" y="3480"/>
                  <a:pt x="16867" y="3448"/>
                </a:cubicBezTo>
                <a:cubicBezTo>
                  <a:pt x="16775" y="3402"/>
                  <a:pt x="16681" y="3346"/>
                  <a:pt x="16570" y="3349"/>
                </a:cubicBezTo>
                <a:cubicBezTo>
                  <a:pt x="16449" y="3352"/>
                  <a:pt x="16311" y="3380"/>
                  <a:pt x="16197" y="3423"/>
                </a:cubicBezTo>
                <a:cubicBezTo>
                  <a:pt x="16116" y="3453"/>
                  <a:pt x="16021" y="3518"/>
                  <a:pt x="15949" y="3572"/>
                </a:cubicBezTo>
                <a:cubicBezTo>
                  <a:pt x="15860" y="3639"/>
                  <a:pt x="15802" y="3723"/>
                  <a:pt x="15726" y="3795"/>
                </a:cubicBezTo>
                <a:cubicBezTo>
                  <a:pt x="15646" y="3870"/>
                  <a:pt x="15539" y="3946"/>
                  <a:pt x="15453" y="4018"/>
                </a:cubicBezTo>
                <a:cubicBezTo>
                  <a:pt x="15265" y="4176"/>
                  <a:pt x="15173" y="4350"/>
                  <a:pt x="15056" y="4564"/>
                </a:cubicBezTo>
                <a:cubicBezTo>
                  <a:pt x="14912" y="4826"/>
                  <a:pt x="14748" y="5095"/>
                  <a:pt x="14660" y="5383"/>
                </a:cubicBezTo>
                <a:cubicBezTo>
                  <a:pt x="14554" y="5730"/>
                  <a:pt x="14561" y="6037"/>
                  <a:pt x="14684" y="6375"/>
                </a:cubicBezTo>
                <a:cubicBezTo>
                  <a:pt x="14751" y="6558"/>
                  <a:pt x="14852" y="6770"/>
                  <a:pt x="15007" y="6896"/>
                </a:cubicBezTo>
                <a:cubicBezTo>
                  <a:pt x="15210" y="7061"/>
                  <a:pt x="15452" y="6977"/>
                  <a:pt x="15677" y="6921"/>
                </a:cubicBezTo>
                <a:cubicBezTo>
                  <a:pt x="15902" y="6866"/>
                  <a:pt x="16121" y="6759"/>
                  <a:pt x="16321" y="6648"/>
                </a:cubicBezTo>
                <a:cubicBezTo>
                  <a:pt x="16546" y="6523"/>
                  <a:pt x="16721" y="6381"/>
                  <a:pt x="16842" y="6152"/>
                </a:cubicBezTo>
                <a:cubicBezTo>
                  <a:pt x="16970" y="5909"/>
                  <a:pt x="17059" y="5626"/>
                  <a:pt x="17115" y="5358"/>
                </a:cubicBezTo>
                <a:cubicBezTo>
                  <a:pt x="17167" y="5110"/>
                  <a:pt x="17140" y="4841"/>
                  <a:pt x="17140" y="4589"/>
                </a:cubicBezTo>
                <a:cubicBezTo>
                  <a:pt x="17140" y="4425"/>
                  <a:pt x="17092" y="4339"/>
                  <a:pt x="17066" y="4192"/>
                </a:cubicBezTo>
                <a:cubicBezTo>
                  <a:pt x="17054" y="4127"/>
                  <a:pt x="17097" y="4075"/>
                  <a:pt x="17090" y="4018"/>
                </a:cubicBezTo>
                <a:cubicBezTo>
                  <a:pt x="17090" y="3994"/>
                  <a:pt x="17090" y="3986"/>
                  <a:pt x="17066" y="39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43200" y="2367000"/>
            <a:ext cx="2455920" cy="1150920"/>
          </a:xfrm>
          <a:custGeom>
            <a:avLst/>
            <a:gdLst/>
            <a:ahLst/>
            <a:rect l="l" t="t" r="r" b="b"/>
            <a:pathLst>
              <a:path w="6823" h="3201">
                <a:moveTo>
                  <a:pt x="10641" y="7640"/>
                </a:moveTo>
                <a:cubicBezTo>
                  <a:pt x="10708" y="7706"/>
                  <a:pt x="10899" y="7846"/>
                  <a:pt x="10790" y="7962"/>
                </a:cubicBezTo>
                <a:cubicBezTo>
                  <a:pt x="10734" y="8021"/>
                  <a:pt x="10539" y="8083"/>
                  <a:pt x="10468" y="8012"/>
                </a:cubicBezTo>
                <a:cubicBezTo>
                  <a:pt x="10371" y="7915"/>
                  <a:pt x="10498" y="7791"/>
                  <a:pt x="10542" y="7714"/>
                </a:cubicBezTo>
                <a:cubicBezTo>
                  <a:pt x="10596" y="7618"/>
                  <a:pt x="10658" y="7534"/>
                  <a:pt x="10716" y="7441"/>
                </a:cubicBezTo>
                <a:cubicBezTo>
                  <a:pt x="10777" y="7343"/>
                  <a:pt x="10805" y="7299"/>
                  <a:pt x="10765" y="7193"/>
                </a:cubicBezTo>
                <a:cubicBezTo>
                  <a:pt x="10672" y="7148"/>
                  <a:pt x="10607" y="7165"/>
                  <a:pt x="10517" y="7218"/>
                </a:cubicBezTo>
                <a:cubicBezTo>
                  <a:pt x="10367" y="7307"/>
                  <a:pt x="10390" y="7378"/>
                  <a:pt x="10468" y="7516"/>
                </a:cubicBezTo>
                <a:cubicBezTo>
                  <a:pt x="10517" y="7603"/>
                  <a:pt x="10553" y="7620"/>
                  <a:pt x="10641" y="7640"/>
                </a:cubicBezTo>
              </a:path>
              <a:path w="6823" h="3201">
                <a:moveTo>
                  <a:pt x="10120" y="8086"/>
                </a:moveTo>
                <a:cubicBezTo>
                  <a:pt x="10254" y="8086"/>
                  <a:pt x="10384" y="8054"/>
                  <a:pt x="10517" y="8037"/>
                </a:cubicBezTo>
                <a:cubicBezTo>
                  <a:pt x="10775" y="8005"/>
                  <a:pt x="11035" y="7851"/>
                  <a:pt x="11286" y="7838"/>
                </a:cubicBezTo>
                <a:cubicBezTo>
                  <a:pt x="11286" y="7890"/>
                  <a:pt x="11267" y="7917"/>
                  <a:pt x="11212" y="7938"/>
                </a:cubicBezTo>
              </a:path>
              <a:path w="6823" h="3201">
                <a:moveTo>
                  <a:pt x="10368" y="8409"/>
                </a:moveTo>
                <a:cubicBezTo>
                  <a:pt x="10347" y="8496"/>
                  <a:pt x="10355" y="8584"/>
                  <a:pt x="10344" y="8682"/>
                </a:cubicBezTo>
                <a:cubicBezTo>
                  <a:pt x="10336" y="8755"/>
                  <a:pt x="10228" y="9046"/>
                  <a:pt x="10319" y="8954"/>
                </a:cubicBezTo>
              </a:path>
              <a:path w="6823" h="3201">
                <a:moveTo>
                  <a:pt x="11063" y="8682"/>
                </a:moveTo>
                <a:cubicBezTo>
                  <a:pt x="11139" y="8769"/>
                  <a:pt x="11178" y="8855"/>
                  <a:pt x="11162" y="8979"/>
                </a:cubicBezTo>
                <a:cubicBezTo>
                  <a:pt x="11141" y="9137"/>
                  <a:pt x="11078" y="9200"/>
                  <a:pt x="10939" y="9178"/>
                </a:cubicBezTo>
                <a:cubicBezTo>
                  <a:pt x="10821" y="9160"/>
                  <a:pt x="10676" y="9159"/>
                  <a:pt x="10691" y="9004"/>
                </a:cubicBezTo>
                <a:cubicBezTo>
                  <a:pt x="10702" y="8889"/>
                  <a:pt x="10866" y="8801"/>
                  <a:pt x="10939" y="8731"/>
                </a:cubicBezTo>
                <a:cubicBezTo>
                  <a:pt x="10993" y="8679"/>
                  <a:pt x="11094" y="8588"/>
                  <a:pt x="11112" y="8508"/>
                </a:cubicBezTo>
                <a:cubicBezTo>
                  <a:pt x="11120" y="8474"/>
                  <a:pt x="11127" y="8379"/>
                  <a:pt x="11088" y="8359"/>
                </a:cubicBezTo>
                <a:cubicBezTo>
                  <a:pt x="10987" y="8308"/>
                  <a:pt x="10904" y="8288"/>
                  <a:pt x="10815" y="8359"/>
                </a:cubicBezTo>
                <a:cubicBezTo>
                  <a:pt x="10724" y="8432"/>
                  <a:pt x="10737" y="8514"/>
                  <a:pt x="10790" y="8607"/>
                </a:cubicBezTo>
                <a:cubicBezTo>
                  <a:pt x="10823" y="8665"/>
                  <a:pt x="10906" y="8707"/>
                  <a:pt x="10964" y="8731"/>
                </a:cubicBezTo>
                <a:cubicBezTo>
                  <a:pt x="10989" y="8739"/>
                  <a:pt x="11013" y="8748"/>
                  <a:pt x="11038" y="8756"/>
                </a:cubicBezTo>
              </a:path>
              <a:path w="6823" h="3201">
                <a:moveTo>
                  <a:pt x="11757" y="7938"/>
                </a:moveTo>
                <a:cubicBezTo>
                  <a:pt x="11869" y="7927"/>
                  <a:pt x="11994" y="7932"/>
                  <a:pt x="12105" y="7913"/>
                </a:cubicBezTo>
                <a:cubicBezTo>
                  <a:pt x="12169" y="7902"/>
                  <a:pt x="12213" y="7888"/>
                  <a:pt x="12278" y="7888"/>
                </a:cubicBezTo>
                <a:cubicBezTo>
                  <a:pt x="12286" y="7888"/>
                  <a:pt x="12295" y="7888"/>
                  <a:pt x="12303" y="7888"/>
                </a:cubicBezTo>
              </a:path>
              <a:path w="6823" h="3201">
                <a:moveTo>
                  <a:pt x="12080" y="7615"/>
                </a:moveTo>
                <a:cubicBezTo>
                  <a:pt x="12080" y="7607"/>
                  <a:pt x="12080" y="7598"/>
                  <a:pt x="12080" y="7590"/>
                </a:cubicBezTo>
              </a:path>
              <a:path w="6823" h="3201">
                <a:moveTo>
                  <a:pt x="12030" y="8310"/>
                </a:moveTo>
                <a:cubicBezTo>
                  <a:pt x="12030" y="8275"/>
                  <a:pt x="12068" y="8276"/>
                  <a:pt x="12105" y="8260"/>
                </a:cubicBezTo>
              </a:path>
              <a:path w="6823" h="3201">
                <a:moveTo>
                  <a:pt x="13022" y="7789"/>
                </a:moveTo>
                <a:cubicBezTo>
                  <a:pt x="13127" y="7900"/>
                  <a:pt x="13288" y="8016"/>
                  <a:pt x="13221" y="8186"/>
                </a:cubicBezTo>
                <a:cubicBezTo>
                  <a:pt x="13133" y="8411"/>
                  <a:pt x="12914" y="8486"/>
                  <a:pt x="12700" y="8384"/>
                </a:cubicBezTo>
                <a:cubicBezTo>
                  <a:pt x="12637" y="8321"/>
                  <a:pt x="12620" y="8311"/>
                  <a:pt x="12601" y="8260"/>
                </a:cubicBezTo>
                <a:cubicBezTo>
                  <a:pt x="12759" y="8260"/>
                  <a:pt x="12839" y="8273"/>
                  <a:pt x="12973" y="8359"/>
                </a:cubicBezTo>
                <a:cubicBezTo>
                  <a:pt x="13061" y="8415"/>
                  <a:pt x="13144" y="8479"/>
                  <a:pt x="13246" y="8508"/>
                </a:cubicBezTo>
                <a:cubicBezTo>
                  <a:pt x="13271" y="8508"/>
                  <a:pt x="13279" y="8508"/>
                  <a:pt x="13295" y="8508"/>
                </a:cubicBezTo>
              </a:path>
              <a:path w="6823" h="3201">
                <a:moveTo>
                  <a:pt x="13841" y="7962"/>
                </a:moveTo>
                <a:cubicBezTo>
                  <a:pt x="13899" y="7971"/>
                  <a:pt x="14066" y="8032"/>
                  <a:pt x="14089" y="7962"/>
                </a:cubicBezTo>
              </a:path>
              <a:path w="6823" h="3201">
                <a:moveTo>
                  <a:pt x="13791" y="8235"/>
                </a:moveTo>
                <a:cubicBezTo>
                  <a:pt x="13936" y="8262"/>
                  <a:pt x="14001" y="8247"/>
                  <a:pt x="14139" y="8210"/>
                </a:cubicBezTo>
                <a:cubicBezTo>
                  <a:pt x="14147" y="8210"/>
                  <a:pt x="14155" y="8210"/>
                  <a:pt x="14163" y="8210"/>
                </a:cubicBezTo>
              </a:path>
              <a:path w="6823" h="3201">
                <a:moveTo>
                  <a:pt x="15156" y="7367"/>
                </a:moveTo>
                <a:cubicBezTo>
                  <a:pt x="15156" y="7325"/>
                  <a:pt x="15146" y="7329"/>
                  <a:pt x="15180" y="7317"/>
                </a:cubicBezTo>
                <a:cubicBezTo>
                  <a:pt x="15180" y="7462"/>
                  <a:pt x="15179" y="7597"/>
                  <a:pt x="15156" y="7739"/>
                </a:cubicBezTo>
                <a:cubicBezTo>
                  <a:pt x="15284" y="7758"/>
                  <a:pt x="15421" y="7784"/>
                  <a:pt x="15553" y="7764"/>
                </a:cubicBezTo>
                <a:cubicBezTo>
                  <a:pt x="15615" y="7732"/>
                  <a:pt x="15631" y="7709"/>
                  <a:pt x="15602" y="7640"/>
                </a:cubicBezTo>
              </a:path>
              <a:path w="6823" h="3201">
                <a:moveTo>
                  <a:pt x="15627" y="7342"/>
                </a:moveTo>
                <a:cubicBezTo>
                  <a:pt x="15627" y="7430"/>
                  <a:pt x="15621" y="7503"/>
                  <a:pt x="15602" y="7590"/>
                </a:cubicBezTo>
                <a:cubicBezTo>
                  <a:pt x="15570" y="7734"/>
                  <a:pt x="15574" y="7869"/>
                  <a:pt x="15553" y="8012"/>
                </a:cubicBezTo>
                <a:cubicBezTo>
                  <a:pt x="15534" y="8086"/>
                  <a:pt x="15500" y="8119"/>
                  <a:pt x="15553" y="8111"/>
                </a:cubicBezTo>
              </a:path>
              <a:path w="6823" h="3201">
                <a:moveTo>
                  <a:pt x="14709" y="8310"/>
                </a:moveTo>
                <a:cubicBezTo>
                  <a:pt x="14863" y="8331"/>
                  <a:pt x="14972" y="8331"/>
                  <a:pt x="15131" y="8310"/>
                </a:cubicBezTo>
                <a:cubicBezTo>
                  <a:pt x="15346" y="8282"/>
                  <a:pt x="15538" y="8319"/>
                  <a:pt x="15751" y="8334"/>
                </a:cubicBezTo>
                <a:cubicBezTo>
                  <a:pt x="15844" y="8341"/>
                  <a:pt x="15932" y="8359"/>
                  <a:pt x="16024" y="8359"/>
                </a:cubicBezTo>
                <a:cubicBezTo>
                  <a:pt x="16066" y="8359"/>
                  <a:pt x="16062" y="8349"/>
                  <a:pt x="16073" y="8384"/>
                </a:cubicBezTo>
              </a:path>
              <a:path w="6823" h="3201">
                <a:moveTo>
                  <a:pt x="15627" y="8781"/>
                </a:moveTo>
                <a:cubicBezTo>
                  <a:pt x="15616" y="8735"/>
                  <a:pt x="15518" y="8651"/>
                  <a:pt x="15478" y="8632"/>
                </a:cubicBezTo>
                <a:cubicBezTo>
                  <a:pt x="15387" y="8588"/>
                  <a:pt x="15327" y="8602"/>
                  <a:pt x="15255" y="8657"/>
                </a:cubicBezTo>
                <a:cubicBezTo>
                  <a:pt x="15222" y="8682"/>
                  <a:pt x="15206" y="8724"/>
                  <a:pt x="15180" y="8756"/>
                </a:cubicBezTo>
                <a:cubicBezTo>
                  <a:pt x="15217" y="8811"/>
                  <a:pt x="15298" y="8880"/>
                  <a:pt x="15379" y="8880"/>
                </a:cubicBezTo>
                <a:cubicBezTo>
                  <a:pt x="15495" y="8880"/>
                  <a:pt x="15566" y="8837"/>
                  <a:pt x="15627" y="8756"/>
                </a:cubicBezTo>
                <a:cubicBezTo>
                  <a:pt x="15647" y="8729"/>
                  <a:pt x="15677" y="8706"/>
                  <a:pt x="15701" y="8682"/>
                </a:cubicBezTo>
                <a:cubicBezTo>
                  <a:pt x="15688" y="8748"/>
                  <a:pt x="15665" y="8789"/>
                  <a:pt x="15652" y="8855"/>
                </a:cubicBezTo>
                <a:cubicBezTo>
                  <a:pt x="15627" y="8980"/>
                  <a:pt x="15602" y="9073"/>
                  <a:pt x="15602" y="9203"/>
                </a:cubicBezTo>
                <a:cubicBezTo>
                  <a:pt x="15602" y="9265"/>
                  <a:pt x="15621" y="9300"/>
                  <a:pt x="15627" y="9351"/>
                </a:cubicBezTo>
                <a:cubicBezTo>
                  <a:pt x="15627" y="9359"/>
                  <a:pt x="15627" y="9368"/>
                  <a:pt x="15627" y="9376"/>
                </a:cubicBezTo>
              </a:path>
              <a:path w="6823" h="3201">
                <a:moveTo>
                  <a:pt x="16917" y="7665"/>
                </a:moveTo>
                <a:cubicBezTo>
                  <a:pt x="16909" y="7665"/>
                  <a:pt x="16900" y="7665"/>
                  <a:pt x="16892" y="7665"/>
                </a:cubicBezTo>
                <a:cubicBezTo>
                  <a:pt x="16904" y="7630"/>
                  <a:pt x="16930" y="7642"/>
                  <a:pt x="16942" y="7665"/>
                </a:cubicBezTo>
                <a:cubicBezTo>
                  <a:pt x="16942" y="7673"/>
                  <a:pt x="16942" y="7681"/>
                  <a:pt x="16942" y="7689"/>
                </a:cubicBezTo>
              </a:path>
              <a:path w="6823" h="3201">
                <a:moveTo>
                  <a:pt x="16049" y="7714"/>
                </a:moveTo>
                <a:cubicBezTo>
                  <a:pt x="16054" y="7664"/>
                  <a:pt x="16075" y="7614"/>
                  <a:pt x="16073" y="7565"/>
                </a:cubicBezTo>
                <a:cubicBezTo>
                  <a:pt x="16069" y="7489"/>
                  <a:pt x="16051" y="7400"/>
                  <a:pt x="16049" y="7317"/>
                </a:cubicBezTo>
                <a:cubicBezTo>
                  <a:pt x="16047" y="7235"/>
                  <a:pt x="16061" y="7159"/>
                  <a:pt x="16024" y="7069"/>
                </a:cubicBezTo>
                <a:cubicBezTo>
                  <a:pt x="15992" y="6992"/>
                  <a:pt x="15985" y="6898"/>
                  <a:pt x="15949" y="6821"/>
                </a:cubicBezTo>
                <a:cubicBezTo>
                  <a:pt x="15910" y="6737"/>
                  <a:pt x="15812" y="6637"/>
                  <a:pt x="15726" y="6598"/>
                </a:cubicBezTo>
                <a:cubicBezTo>
                  <a:pt x="15648" y="6562"/>
                  <a:pt x="15628" y="6587"/>
                  <a:pt x="15553" y="6598"/>
                </a:cubicBezTo>
                <a:cubicBezTo>
                  <a:pt x="15467" y="6611"/>
                  <a:pt x="15389" y="6614"/>
                  <a:pt x="15304" y="6648"/>
                </a:cubicBezTo>
                <a:cubicBezTo>
                  <a:pt x="15100" y="6729"/>
                  <a:pt x="14952" y="6852"/>
                  <a:pt x="14808" y="7020"/>
                </a:cubicBezTo>
                <a:cubicBezTo>
                  <a:pt x="14638" y="7218"/>
                  <a:pt x="14541" y="7472"/>
                  <a:pt x="14461" y="7714"/>
                </a:cubicBezTo>
                <a:cubicBezTo>
                  <a:pt x="14386" y="7939"/>
                  <a:pt x="14304" y="8155"/>
                  <a:pt x="14238" y="8384"/>
                </a:cubicBezTo>
                <a:cubicBezTo>
                  <a:pt x="14187" y="8563"/>
                  <a:pt x="14129" y="8767"/>
                  <a:pt x="14114" y="8954"/>
                </a:cubicBezTo>
                <a:cubicBezTo>
                  <a:pt x="14100" y="9130"/>
                  <a:pt x="14060" y="9327"/>
                  <a:pt x="14114" y="9500"/>
                </a:cubicBezTo>
                <a:cubicBezTo>
                  <a:pt x="14166" y="9666"/>
                  <a:pt x="14476" y="9765"/>
                  <a:pt x="14635" y="9773"/>
                </a:cubicBezTo>
                <a:cubicBezTo>
                  <a:pt x="14885" y="9786"/>
                  <a:pt x="15247" y="9691"/>
                  <a:pt x="15478" y="9599"/>
                </a:cubicBezTo>
                <a:cubicBezTo>
                  <a:pt x="15676" y="9520"/>
                  <a:pt x="15853" y="9464"/>
                  <a:pt x="15974" y="9277"/>
                </a:cubicBezTo>
                <a:cubicBezTo>
                  <a:pt x="16132" y="9033"/>
                  <a:pt x="16123" y="8761"/>
                  <a:pt x="16123" y="8483"/>
                </a:cubicBezTo>
                <a:cubicBezTo>
                  <a:pt x="16123" y="8315"/>
                  <a:pt x="16086" y="8151"/>
                  <a:pt x="16049" y="7987"/>
                </a:cubicBezTo>
                <a:cubicBezTo>
                  <a:pt x="16019" y="7855"/>
                  <a:pt x="15963" y="7743"/>
                  <a:pt x="15925" y="7615"/>
                </a:cubicBezTo>
                <a:cubicBezTo>
                  <a:pt x="15906" y="7552"/>
                  <a:pt x="15887" y="7471"/>
                  <a:pt x="15875" y="7417"/>
                </a:cubicBezTo>
                <a:cubicBezTo>
                  <a:pt x="15875" y="7409"/>
                  <a:pt x="15875" y="7400"/>
                  <a:pt x="15875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82920" y="3751200"/>
            <a:ext cx="1973160" cy="1089000"/>
          </a:xfrm>
          <a:custGeom>
            <a:avLst/>
            <a:gdLst/>
            <a:ahLst/>
            <a:rect l="l" t="t" r="r" b="b"/>
            <a:pathLst>
              <a:path w="5483" h="3027">
                <a:moveTo>
                  <a:pt x="6896" y="11534"/>
                </a:moveTo>
                <a:cubicBezTo>
                  <a:pt x="7021" y="11534"/>
                  <a:pt x="7141" y="11512"/>
                  <a:pt x="7268" y="11509"/>
                </a:cubicBezTo>
                <a:cubicBezTo>
                  <a:pt x="7343" y="11509"/>
                  <a:pt x="7368" y="11508"/>
                  <a:pt x="7317" y="11435"/>
                </a:cubicBezTo>
              </a:path>
              <a:path w="5483" h="3027">
                <a:moveTo>
                  <a:pt x="7144" y="11162"/>
                </a:moveTo>
                <a:cubicBezTo>
                  <a:pt x="7136" y="11162"/>
                  <a:pt x="7127" y="11162"/>
                  <a:pt x="7119" y="11162"/>
                </a:cubicBezTo>
              </a:path>
              <a:path w="5483" h="3027">
                <a:moveTo>
                  <a:pt x="7193" y="11832"/>
                </a:moveTo>
                <a:cubicBezTo>
                  <a:pt x="7259" y="11832"/>
                  <a:pt x="7259" y="11816"/>
                  <a:pt x="7293" y="11757"/>
                </a:cubicBezTo>
              </a:path>
              <a:path w="5483" h="3027">
                <a:moveTo>
                  <a:pt x="7789" y="11137"/>
                </a:moveTo>
                <a:cubicBezTo>
                  <a:pt x="7765" y="11233"/>
                  <a:pt x="7712" y="11349"/>
                  <a:pt x="7714" y="11460"/>
                </a:cubicBezTo>
                <a:cubicBezTo>
                  <a:pt x="7717" y="11604"/>
                  <a:pt x="7852" y="11846"/>
                  <a:pt x="8037" y="11807"/>
                </a:cubicBezTo>
                <a:cubicBezTo>
                  <a:pt x="8180" y="11777"/>
                  <a:pt x="8210" y="11670"/>
                  <a:pt x="8235" y="11559"/>
                </a:cubicBezTo>
                <a:cubicBezTo>
                  <a:pt x="8160" y="11537"/>
                  <a:pt x="7981" y="11565"/>
                  <a:pt x="8012" y="11708"/>
                </a:cubicBezTo>
                <a:cubicBezTo>
                  <a:pt x="8029" y="11716"/>
                  <a:pt x="8045" y="11725"/>
                  <a:pt x="8062" y="11733"/>
                </a:cubicBezTo>
              </a:path>
              <a:path w="5483" h="3027">
                <a:moveTo>
                  <a:pt x="7268" y="12576"/>
                </a:moveTo>
                <a:cubicBezTo>
                  <a:pt x="7426" y="12576"/>
                  <a:pt x="7566" y="12563"/>
                  <a:pt x="7714" y="12502"/>
                </a:cubicBezTo>
                <a:cubicBezTo>
                  <a:pt x="7722" y="12494"/>
                  <a:pt x="7731" y="12485"/>
                  <a:pt x="7739" y="12477"/>
                </a:cubicBezTo>
              </a:path>
              <a:path w="5483" h="3027">
                <a:moveTo>
                  <a:pt x="7541" y="12229"/>
                </a:moveTo>
                <a:lnTo>
                  <a:pt x="7541" y="12229"/>
                </a:lnTo>
              </a:path>
              <a:path w="5483" h="3027">
                <a:moveTo>
                  <a:pt x="7689" y="12774"/>
                </a:moveTo>
                <a:cubicBezTo>
                  <a:pt x="7689" y="12782"/>
                  <a:pt x="7689" y="12791"/>
                  <a:pt x="7689" y="12799"/>
                </a:cubicBezTo>
              </a:path>
              <a:path w="5483" h="3027">
                <a:moveTo>
                  <a:pt x="8310" y="12179"/>
                </a:moveTo>
                <a:cubicBezTo>
                  <a:pt x="8259" y="12280"/>
                  <a:pt x="8193" y="12393"/>
                  <a:pt x="8161" y="12502"/>
                </a:cubicBezTo>
                <a:cubicBezTo>
                  <a:pt x="8114" y="12658"/>
                  <a:pt x="8118" y="12841"/>
                  <a:pt x="8310" y="12898"/>
                </a:cubicBezTo>
                <a:cubicBezTo>
                  <a:pt x="8477" y="12948"/>
                  <a:pt x="8705" y="12824"/>
                  <a:pt x="8731" y="12650"/>
                </a:cubicBezTo>
                <a:cubicBezTo>
                  <a:pt x="8723" y="12625"/>
                  <a:pt x="8714" y="12601"/>
                  <a:pt x="8706" y="12576"/>
                </a:cubicBezTo>
                <a:cubicBezTo>
                  <a:pt x="8606" y="12583"/>
                  <a:pt x="8438" y="12568"/>
                  <a:pt x="8483" y="12725"/>
                </a:cubicBezTo>
                <a:cubicBezTo>
                  <a:pt x="8537" y="12805"/>
                  <a:pt x="8560" y="12833"/>
                  <a:pt x="8632" y="12849"/>
                </a:cubicBezTo>
              </a:path>
              <a:path w="5483" h="3027">
                <a:moveTo>
                  <a:pt x="9351" y="11584"/>
                </a:moveTo>
                <a:cubicBezTo>
                  <a:pt x="9410" y="11619"/>
                  <a:pt x="9471" y="11620"/>
                  <a:pt x="9550" y="11633"/>
                </a:cubicBezTo>
              </a:path>
              <a:path w="5483" h="3027">
                <a:moveTo>
                  <a:pt x="9649" y="11633"/>
                </a:moveTo>
                <a:lnTo>
                  <a:pt x="9649" y="11633"/>
                </a:lnTo>
              </a:path>
              <a:path w="5483" h="3027">
                <a:moveTo>
                  <a:pt x="9302" y="11906"/>
                </a:moveTo>
                <a:cubicBezTo>
                  <a:pt x="9397" y="11912"/>
                  <a:pt x="9480" y="11931"/>
                  <a:pt x="9575" y="11931"/>
                </a:cubicBezTo>
              </a:path>
              <a:path w="5483" h="3027">
                <a:moveTo>
                  <a:pt x="9426" y="13444"/>
                </a:moveTo>
                <a:lnTo>
                  <a:pt x="9426" y="13444"/>
                </a:lnTo>
              </a:path>
              <a:path w="5483" h="3027">
                <a:moveTo>
                  <a:pt x="10840" y="11038"/>
                </a:moveTo>
                <a:cubicBezTo>
                  <a:pt x="10903" y="11060"/>
                  <a:pt x="10888" y="11200"/>
                  <a:pt x="10889" y="11261"/>
                </a:cubicBezTo>
                <a:cubicBezTo>
                  <a:pt x="10891" y="11357"/>
                  <a:pt x="10904" y="11440"/>
                  <a:pt x="10914" y="11534"/>
                </a:cubicBezTo>
              </a:path>
              <a:path w="5483" h="3027">
                <a:moveTo>
                  <a:pt x="10542" y="11956"/>
                </a:moveTo>
                <a:cubicBezTo>
                  <a:pt x="10706" y="11890"/>
                  <a:pt x="10862" y="11884"/>
                  <a:pt x="11038" y="11881"/>
                </a:cubicBezTo>
                <a:cubicBezTo>
                  <a:pt x="11168" y="11879"/>
                  <a:pt x="11262" y="11853"/>
                  <a:pt x="11385" y="11832"/>
                </a:cubicBezTo>
              </a:path>
              <a:path w="5483" h="3027">
                <a:moveTo>
                  <a:pt x="10666" y="12353"/>
                </a:moveTo>
                <a:cubicBezTo>
                  <a:pt x="10761" y="12321"/>
                  <a:pt x="10884" y="12290"/>
                  <a:pt x="10988" y="12303"/>
                </a:cubicBezTo>
                <a:cubicBezTo>
                  <a:pt x="11105" y="12318"/>
                  <a:pt x="11170" y="12419"/>
                  <a:pt x="11162" y="12526"/>
                </a:cubicBezTo>
                <a:cubicBezTo>
                  <a:pt x="11150" y="12675"/>
                  <a:pt x="11070" y="12834"/>
                  <a:pt x="10914" y="12874"/>
                </a:cubicBezTo>
                <a:cubicBezTo>
                  <a:pt x="10836" y="12894"/>
                  <a:pt x="10673" y="12891"/>
                  <a:pt x="10616" y="12824"/>
                </a:cubicBezTo>
                <a:cubicBezTo>
                  <a:pt x="10553" y="12750"/>
                  <a:pt x="10518" y="12656"/>
                  <a:pt x="10567" y="12576"/>
                </a:cubicBezTo>
                <a:cubicBezTo>
                  <a:pt x="10699" y="12556"/>
                  <a:pt x="10855" y="12580"/>
                  <a:pt x="10988" y="12626"/>
                </a:cubicBezTo>
                <a:cubicBezTo>
                  <a:pt x="11106" y="12667"/>
                  <a:pt x="11197" y="12715"/>
                  <a:pt x="11286" y="12799"/>
                </a:cubicBezTo>
                <a:cubicBezTo>
                  <a:pt x="11328" y="12839"/>
                  <a:pt x="11369" y="12882"/>
                  <a:pt x="11410" y="12923"/>
                </a:cubicBezTo>
              </a:path>
              <a:path w="5483" h="3027">
                <a:moveTo>
                  <a:pt x="11981" y="11361"/>
                </a:moveTo>
                <a:cubicBezTo>
                  <a:pt x="12016" y="11232"/>
                  <a:pt x="12042" y="11098"/>
                  <a:pt x="11931" y="10939"/>
                </a:cubicBezTo>
                <a:cubicBezTo>
                  <a:pt x="11690" y="10595"/>
                  <a:pt x="11303" y="10489"/>
                  <a:pt x="10914" y="10443"/>
                </a:cubicBezTo>
                <a:cubicBezTo>
                  <a:pt x="10482" y="10392"/>
                  <a:pt x="10004" y="10397"/>
                  <a:pt x="9649" y="10691"/>
                </a:cubicBezTo>
                <a:cubicBezTo>
                  <a:pt x="9300" y="10980"/>
                  <a:pt x="9184" y="11396"/>
                  <a:pt x="9054" y="11807"/>
                </a:cubicBezTo>
                <a:cubicBezTo>
                  <a:pt x="8947" y="12144"/>
                  <a:pt x="8913" y="12477"/>
                  <a:pt x="9004" y="12824"/>
                </a:cubicBezTo>
                <a:cubicBezTo>
                  <a:pt x="9077" y="13103"/>
                  <a:pt x="9176" y="13261"/>
                  <a:pt x="9451" y="13295"/>
                </a:cubicBezTo>
                <a:cubicBezTo>
                  <a:pt x="9820" y="13341"/>
                  <a:pt x="10302" y="13442"/>
                  <a:pt x="10666" y="13345"/>
                </a:cubicBezTo>
                <a:cubicBezTo>
                  <a:pt x="11232" y="13194"/>
                  <a:pt x="11806" y="12726"/>
                  <a:pt x="12080" y="12229"/>
                </a:cubicBezTo>
                <a:cubicBezTo>
                  <a:pt x="12304" y="11823"/>
                  <a:pt x="12367" y="11440"/>
                  <a:pt x="12353" y="10988"/>
                </a:cubicBezTo>
                <a:cubicBezTo>
                  <a:pt x="12347" y="10801"/>
                  <a:pt x="12324" y="10809"/>
                  <a:pt x="12254" y="10691"/>
                </a:cubicBezTo>
                <a:cubicBezTo>
                  <a:pt x="12221" y="10641"/>
                  <a:pt x="12187" y="10592"/>
                  <a:pt x="12154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Writing Ratios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352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rite the following ratios in simplest form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) Ravens wins t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) Redskins wins to total games pla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) Ravens wins to Steelers w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1600200"/>
          <a:ext cx="4495680" cy="4530600"/>
        </p:xfrm>
        <a:graphic>
          <a:graphicData uri="http://schemas.openxmlformats.org/drawingml/2006/table">
            <a:tbl>
              <a:tblPr/>
              <a:tblGrid>
                <a:gridCol w="1676160"/>
                <a:gridCol w="1320840"/>
                <a:gridCol w="1498680"/>
              </a:tblGrid>
              <a:tr h="90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F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v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sk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el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7608960" y="3160800"/>
            <a:ext cx="285840" cy="108000"/>
          </a:xfrm>
          <a:custGeom>
            <a:avLst/>
            <a:gdLst/>
            <a:ahLst/>
            <a:rect l="l" t="t" r="r" b="b"/>
            <a:pathLst>
              <a:path w="794" h="299">
                <a:moveTo>
                  <a:pt x="21258" y="8781"/>
                </a:moveTo>
                <a:cubicBezTo>
                  <a:pt x="21391" y="8781"/>
                  <a:pt x="21925" y="8770"/>
                  <a:pt x="21878" y="8806"/>
                </a:cubicBezTo>
              </a:path>
              <a:path w="794" h="299">
                <a:moveTo>
                  <a:pt x="21580" y="8855"/>
                </a:moveTo>
                <a:cubicBezTo>
                  <a:pt x="21572" y="8855"/>
                  <a:pt x="21563" y="8855"/>
                  <a:pt x="21555" y="8855"/>
                </a:cubicBezTo>
                <a:cubicBezTo>
                  <a:pt x="21565" y="8885"/>
                  <a:pt x="21617" y="8894"/>
                  <a:pt x="21654" y="8905"/>
                </a:cubicBezTo>
                <a:cubicBezTo>
                  <a:pt x="21719" y="8925"/>
                  <a:pt x="21809" y="8905"/>
                  <a:pt x="21878" y="8905"/>
                </a:cubicBezTo>
              </a:path>
              <a:path w="794" h="299">
                <a:moveTo>
                  <a:pt x="21134" y="9054"/>
                </a:moveTo>
                <a:cubicBezTo>
                  <a:pt x="21376" y="9054"/>
                  <a:pt x="21614" y="9050"/>
                  <a:pt x="21853" y="9079"/>
                </a:cubicBezTo>
                <a:cubicBezTo>
                  <a:pt x="21878" y="9079"/>
                  <a:pt x="21886" y="9079"/>
                  <a:pt x="21903" y="90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02280" y="2463840"/>
            <a:ext cx="1590840" cy="376200"/>
          </a:xfrm>
          <a:custGeom>
            <a:avLst/>
            <a:gdLst/>
            <a:ahLst/>
            <a:rect l="l" t="t" r="r" b="b"/>
            <a:pathLst>
              <a:path w="4416" h="1043">
                <a:moveTo>
                  <a:pt x="19174" y="7739"/>
                </a:moveTo>
                <a:cubicBezTo>
                  <a:pt x="19276" y="7739"/>
                  <a:pt x="19369" y="7716"/>
                  <a:pt x="19472" y="7714"/>
                </a:cubicBezTo>
                <a:cubicBezTo>
                  <a:pt x="19614" y="7711"/>
                  <a:pt x="19749" y="7739"/>
                  <a:pt x="19893" y="7739"/>
                </a:cubicBezTo>
                <a:cubicBezTo>
                  <a:pt x="20024" y="7739"/>
                  <a:pt x="20139" y="7747"/>
                  <a:pt x="20265" y="7764"/>
                </a:cubicBezTo>
                <a:cubicBezTo>
                  <a:pt x="20349" y="7776"/>
                  <a:pt x="20440" y="7774"/>
                  <a:pt x="20513" y="7789"/>
                </a:cubicBezTo>
                <a:cubicBezTo>
                  <a:pt x="20555" y="7789"/>
                  <a:pt x="20563" y="7789"/>
                  <a:pt x="20588" y="7789"/>
                </a:cubicBezTo>
              </a:path>
              <a:path w="4416" h="1043">
                <a:moveTo>
                  <a:pt x="21158" y="7193"/>
                </a:moveTo>
                <a:cubicBezTo>
                  <a:pt x="21186" y="7193"/>
                  <a:pt x="21197" y="7195"/>
                  <a:pt x="21208" y="7218"/>
                </a:cubicBezTo>
              </a:path>
              <a:path w="4416" h="1043">
                <a:moveTo>
                  <a:pt x="21208" y="7640"/>
                </a:moveTo>
                <a:cubicBezTo>
                  <a:pt x="21233" y="7640"/>
                  <a:pt x="21241" y="7640"/>
                  <a:pt x="21258" y="7640"/>
                </a:cubicBezTo>
              </a:path>
              <a:path w="4416" h="1043">
                <a:moveTo>
                  <a:pt x="21630" y="7813"/>
                </a:moveTo>
                <a:cubicBezTo>
                  <a:pt x="21808" y="7813"/>
                  <a:pt x="21978" y="7822"/>
                  <a:pt x="22151" y="7838"/>
                </a:cubicBezTo>
                <a:cubicBezTo>
                  <a:pt x="22358" y="7858"/>
                  <a:pt x="22570" y="7839"/>
                  <a:pt x="22771" y="7863"/>
                </a:cubicBezTo>
                <a:cubicBezTo>
                  <a:pt x="23037" y="7895"/>
                  <a:pt x="23321" y="7863"/>
                  <a:pt x="23589" y="7863"/>
                </a:cubicBezTo>
              </a:path>
              <a:path w="4416" h="1043">
                <a:moveTo>
                  <a:pt x="19397" y="6921"/>
                </a:moveTo>
                <a:cubicBezTo>
                  <a:pt x="19381" y="6967"/>
                  <a:pt x="19382" y="7019"/>
                  <a:pt x="19372" y="7094"/>
                </a:cubicBezTo>
                <a:cubicBezTo>
                  <a:pt x="19351" y="7253"/>
                  <a:pt x="19348" y="7403"/>
                  <a:pt x="19348" y="7565"/>
                </a:cubicBezTo>
                <a:cubicBezTo>
                  <a:pt x="19348" y="7623"/>
                  <a:pt x="19331" y="7648"/>
                  <a:pt x="19372" y="7640"/>
                </a:cubicBezTo>
              </a:path>
              <a:path w="4416" h="1043">
                <a:moveTo>
                  <a:pt x="20067" y="7020"/>
                </a:moveTo>
                <a:cubicBezTo>
                  <a:pt x="20067" y="6995"/>
                  <a:pt x="20067" y="6987"/>
                  <a:pt x="20067" y="6970"/>
                </a:cubicBezTo>
                <a:cubicBezTo>
                  <a:pt x="19988" y="6996"/>
                  <a:pt x="20034" y="7178"/>
                  <a:pt x="20017" y="7243"/>
                </a:cubicBezTo>
                <a:cubicBezTo>
                  <a:pt x="19986" y="7363"/>
                  <a:pt x="19949" y="7496"/>
                  <a:pt x="19918" y="7615"/>
                </a:cubicBezTo>
                <a:cubicBezTo>
                  <a:pt x="19896" y="7699"/>
                  <a:pt x="19893" y="7772"/>
                  <a:pt x="19893" y="7863"/>
                </a:cubicBezTo>
                <a:cubicBezTo>
                  <a:pt x="19893" y="7891"/>
                  <a:pt x="19895" y="7897"/>
                  <a:pt x="19918" y="7863"/>
                </a:cubicBezTo>
              </a:path>
              <a:path w="4416" h="1043">
                <a:moveTo>
                  <a:pt x="22200" y="6970"/>
                </a:moveTo>
                <a:cubicBezTo>
                  <a:pt x="22200" y="6919"/>
                  <a:pt x="22165" y="7019"/>
                  <a:pt x="22151" y="7045"/>
                </a:cubicBezTo>
                <a:cubicBezTo>
                  <a:pt x="22131" y="7085"/>
                  <a:pt x="22122" y="7091"/>
                  <a:pt x="22126" y="7119"/>
                </a:cubicBezTo>
                <a:cubicBezTo>
                  <a:pt x="22212" y="7129"/>
                  <a:pt x="22350" y="7143"/>
                  <a:pt x="22423" y="7193"/>
                </a:cubicBezTo>
                <a:cubicBezTo>
                  <a:pt x="22512" y="7253"/>
                  <a:pt x="22572" y="7332"/>
                  <a:pt x="22547" y="7441"/>
                </a:cubicBezTo>
                <a:cubicBezTo>
                  <a:pt x="22533" y="7503"/>
                  <a:pt x="22425" y="7653"/>
                  <a:pt x="22349" y="7640"/>
                </a:cubicBezTo>
                <a:cubicBezTo>
                  <a:pt x="22233" y="7620"/>
                  <a:pt x="22166" y="7498"/>
                  <a:pt x="22101" y="7417"/>
                </a:cubicBezTo>
              </a:path>
              <a:path w="4416" h="1043">
                <a:moveTo>
                  <a:pt x="22250" y="6846"/>
                </a:moveTo>
                <a:cubicBezTo>
                  <a:pt x="22330" y="6846"/>
                  <a:pt x="22420" y="6858"/>
                  <a:pt x="22498" y="6871"/>
                </a:cubicBezTo>
                <a:cubicBezTo>
                  <a:pt x="22593" y="6887"/>
                  <a:pt x="22675" y="6896"/>
                  <a:pt x="22771" y="6896"/>
                </a:cubicBezTo>
                <a:cubicBezTo>
                  <a:pt x="22831" y="6896"/>
                  <a:pt x="22885" y="6914"/>
                  <a:pt x="22944" y="69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51920" y="2990880"/>
            <a:ext cx="411120" cy="938160"/>
          </a:xfrm>
          <a:custGeom>
            <a:avLst/>
            <a:gdLst/>
            <a:ahLst/>
            <a:rect l="l" t="t" r="r" b="b"/>
            <a:pathLst>
              <a:path w="1142" h="2605">
                <a:moveTo>
                  <a:pt x="23217" y="8334"/>
                </a:moveTo>
                <a:cubicBezTo>
                  <a:pt x="23217" y="8326"/>
                  <a:pt x="23217" y="8318"/>
                  <a:pt x="23217" y="8310"/>
                </a:cubicBezTo>
                <a:cubicBezTo>
                  <a:pt x="23260" y="8352"/>
                  <a:pt x="23242" y="8476"/>
                  <a:pt x="23242" y="8558"/>
                </a:cubicBezTo>
                <a:cubicBezTo>
                  <a:pt x="23242" y="8607"/>
                  <a:pt x="23242" y="8624"/>
                  <a:pt x="23242" y="8657"/>
                </a:cubicBezTo>
              </a:path>
              <a:path w="1142" h="2605">
                <a:moveTo>
                  <a:pt x="23515" y="8310"/>
                </a:moveTo>
                <a:cubicBezTo>
                  <a:pt x="23528" y="8371"/>
                  <a:pt x="23547" y="8449"/>
                  <a:pt x="23564" y="8508"/>
                </a:cubicBezTo>
                <a:cubicBezTo>
                  <a:pt x="23572" y="8525"/>
                  <a:pt x="23581" y="8541"/>
                  <a:pt x="23589" y="8558"/>
                </a:cubicBezTo>
              </a:path>
              <a:path w="1142" h="2605">
                <a:moveTo>
                  <a:pt x="22920" y="8781"/>
                </a:moveTo>
                <a:cubicBezTo>
                  <a:pt x="23043" y="8760"/>
                  <a:pt x="23163" y="8744"/>
                  <a:pt x="23292" y="8756"/>
                </a:cubicBezTo>
                <a:cubicBezTo>
                  <a:pt x="23436" y="8770"/>
                  <a:pt x="23568" y="8781"/>
                  <a:pt x="23713" y="8781"/>
                </a:cubicBezTo>
                <a:cubicBezTo>
                  <a:pt x="23721" y="8781"/>
                  <a:pt x="23730" y="8781"/>
                  <a:pt x="23738" y="8781"/>
                </a:cubicBezTo>
              </a:path>
              <a:path w="1142" h="2605">
                <a:moveTo>
                  <a:pt x="23192" y="9004"/>
                </a:moveTo>
                <a:cubicBezTo>
                  <a:pt x="23200" y="9004"/>
                  <a:pt x="23209" y="9004"/>
                  <a:pt x="23217" y="9004"/>
                </a:cubicBezTo>
                <a:cubicBezTo>
                  <a:pt x="23206" y="9038"/>
                  <a:pt x="23169" y="9038"/>
                  <a:pt x="23217" y="9054"/>
                </a:cubicBezTo>
                <a:cubicBezTo>
                  <a:pt x="23325" y="9090"/>
                  <a:pt x="23420" y="9134"/>
                  <a:pt x="23515" y="9178"/>
                </a:cubicBezTo>
                <a:cubicBezTo>
                  <a:pt x="23550" y="9194"/>
                  <a:pt x="23637" y="9293"/>
                  <a:pt x="23589" y="9351"/>
                </a:cubicBezTo>
                <a:cubicBezTo>
                  <a:pt x="23538" y="9413"/>
                  <a:pt x="23408" y="9462"/>
                  <a:pt x="23341" y="9426"/>
                </a:cubicBezTo>
                <a:cubicBezTo>
                  <a:pt x="23306" y="9391"/>
                  <a:pt x="23293" y="9369"/>
                  <a:pt x="23292" y="9327"/>
                </a:cubicBezTo>
              </a:path>
              <a:path w="1142" h="2605">
                <a:moveTo>
                  <a:pt x="23341" y="8930"/>
                </a:moveTo>
                <a:cubicBezTo>
                  <a:pt x="23471" y="8930"/>
                  <a:pt x="23591" y="8935"/>
                  <a:pt x="23713" y="8954"/>
                </a:cubicBezTo>
                <a:cubicBezTo>
                  <a:pt x="23768" y="8962"/>
                  <a:pt x="23832" y="8954"/>
                  <a:pt x="23887" y="8954"/>
                </a:cubicBezTo>
              </a:path>
              <a:path w="1142" h="2605">
                <a:moveTo>
                  <a:pt x="23440" y="9947"/>
                </a:moveTo>
                <a:cubicBezTo>
                  <a:pt x="23526" y="9964"/>
                  <a:pt x="23539" y="10006"/>
                  <a:pt x="23589" y="10071"/>
                </a:cubicBezTo>
                <a:cubicBezTo>
                  <a:pt x="23597" y="10079"/>
                  <a:pt x="23606" y="10088"/>
                  <a:pt x="23614" y="10096"/>
                </a:cubicBezTo>
                <a:cubicBezTo>
                  <a:pt x="23517" y="10163"/>
                  <a:pt x="23450" y="10200"/>
                  <a:pt x="23341" y="10120"/>
                </a:cubicBezTo>
                <a:cubicBezTo>
                  <a:pt x="23333" y="10112"/>
                  <a:pt x="23324" y="10104"/>
                  <a:pt x="23316" y="10096"/>
                </a:cubicBezTo>
                <a:cubicBezTo>
                  <a:pt x="23385" y="9986"/>
                  <a:pt x="23474" y="9980"/>
                  <a:pt x="23564" y="9897"/>
                </a:cubicBezTo>
                <a:cubicBezTo>
                  <a:pt x="23623" y="9843"/>
                  <a:pt x="23657" y="9768"/>
                  <a:pt x="23688" y="9699"/>
                </a:cubicBezTo>
                <a:cubicBezTo>
                  <a:pt x="23655" y="9640"/>
                  <a:pt x="23592" y="9571"/>
                  <a:pt x="23515" y="9575"/>
                </a:cubicBezTo>
                <a:cubicBezTo>
                  <a:pt x="23442" y="9579"/>
                  <a:pt x="23379" y="9654"/>
                  <a:pt x="23341" y="9699"/>
                </a:cubicBezTo>
                <a:cubicBezTo>
                  <a:pt x="23265" y="9789"/>
                  <a:pt x="23393" y="9851"/>
                  <a:pt x="23465" y="9897"/>
                </a:cubicBezTo>
                <a:cubicBezTo>
                  <a:pt x="23506" y="9917"/>
                  <a:pt x="23512" y="9926"/>
                  <a:pt x="23540" y="9922"/>
                </a:cubicBezTo>
              </a:path>
              <a:path w="1142" h="2605">
                <a:moveTo>
                  <a:pt x="23118" y="10269"/>
                </a:moveTo>
                <a:cubicBezTo>
                  <a:pt x="23311" y="10241"/>
                  <a:pt x="23497" y="10252"/>
                  <a:pt x="23688" y="10244"/>
                </a:cubicBezTo>
                <a:cubicBezTo>
                  <a:pt x="23775" y="10240"/>
                  <a:pt x="23934" y="10276"/>
                  <a:pt x="24011" y="10220"/>
                </a:cubicBezTo>
                <a:cubicBezTo>
                  <a:pt x="24003" y="10220"/>
                  <a:pt x="23994" y="10220"/>
                  <a:pt x="23986" y="10220"/>
                </a:cubicBezTo>
              </a:path>
              <a:path w="1142" h="2605">
                <a:moveTo>
                  <a:pt x="23068" y="10517"/>
                </a:moveTo>
                <a:cubicBezTo>
                  <a:pt x="23104" y="10501"/>
                  <a:pt x="23154" y="10475"/>
                  <a:pt x="23168" y="10468"/>
                </a:cubicBezTo>
                <a:cubicBezTo>
                  <a:pt x="23176" y="10468"/>
                  <a:pt x="23184" y="10468"/>
                  <a:pt x="23192" y="10468"/>
                </a:cubicBezTo>
                <a:cubicBezTo>
                  <a:pt x="23248" y="10564"/>
                  <a:pt x="23226" y="10602"/>
                  <a:pt x="23242" y="10716"/>
                </a:cubicBezTo>
                <a:cubicBezTo>
                  <a:pt x="23257" y="10821"/>
                  <a:pt x="23247" y="10841"/>
                  <a:pt x="23316" y="10864"/>
                </a:cubicBezTo>
              </a:path>
              <a:path w="1142" h="2605">
                <a:moveTo>
                  <a:pt x="23763" y="10418"/>
                </a:moveTo>
                <a:cubicBezTo>
                  <a:pt x="23721" y="10481"/>
                  <a:pt x="23649" y="10637"/>
                  <a:pt x="23664" y="10716"/>
                </a:cubicBezTo>
                <a:cubicBezTo>
                  <a:pt x="23683" y="10813"/>
                  <a:pt x="23797" y="10897"/>
                  <a:pt x="23887" y="10914"/>
                </a:cubicBezTo>
                <a:cubicBezTo>
                  <a:pt x="24011" y="10937"/>
                  <a:pt x="24050" y="10875"/>
                  <a:pt x="24061" y="10765"/>
                </a:cubicBezTo>
                <a:cubicBezTo>
                  <a:pt x="24076" y="10615"/>
                  <a:pt x="24006" y="10595"/>
                  <a:pt x="23887" y="10616"/>
                </a:cubicBezTo>
                <a:cubicBezTo>
                  <a:pt x="23852" y="10698"/>
                  <a:pt x="23849" y="10786"/>
                  <a:pt x="23912" y="10864"/>
                </a:cubicBezTo>
                <a:cubicBezTo>
                  <a:pt x="23950" y="10903"/>
                  <a:pt x="23982" y="10920"/>
                  <a:pt x="23937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474040" y="4071960"/>
            <a:ext cx="277920" cy="401760"/>
          </a:xfrm>
          <a:custGeom>
            <a:avLst/>
            <a:gdLst/>
            <a:ahLst/>
            <a:rect l="l" t="t" r="r" b="b"/>
            <a:pathLst>
              <a:path w="770" h="1117">
                <a:moveTo>
                  <a:pt x="23837" y="11336"/>
                </a:moveTo>
                <a:cubicBezTo>
                  <a:pt x="23861" y="11312"/>
                  <a:pt x="23898" y="11449"/>
                  <a:pt x="23912" y="11509"/>
                </a:cubicBezTo>
                <a:cubicBezTo>
                  <a:pt x="23912" y="11534"/>
                  <a:pt x="23912" y="11542"/>
                  <a:pt x="23912" y="11559"/>
                </a:cubicBezTo>
              </a:path>
              <a:path w="770" h="1117">
                <a:moveTo>
                  <a:pt x="23639" y="11857"/>
                </a:moveTo>
                <a:cubicBezTo>
                  <a:pt x="23822" y="11814"/>
                  <a:pt x="24023" y="11746"/>
                  <a:pt x="24209" y="11733"/>
                </a:cubicBezTo>
                <a:cubicBezTo>
                  <a:pt x="24249" y="11730"/>
                  <a:pt x="24264" y="11714"/>
                  <a:pt x="24309" y="11708"/>
                </a:cubicBezTo>
              </a:path>
              <a:path w="770" h="1117">
                <a:moveTo>
                  <a:pt x="23763" y="12055"/>
                </a:moveTo>
                <a:cubicBezTo>
                  <a:pt x="23781" y="11983"/>
                  <a:pt x="23864" y="11948"/>
                  <a:pt x="23937" y="11931"/>
                </a:cubicBezTo>
                <a:cubicBezTo>
                  <a:pt x="23991" y="11919"/>
                  <a:pt x="24045" y="11948"/>
                  <a:pt x="24061" y="12005"/>
                </a:cubicBezTo>
                <a:cubicBezTo>
                  <a:pt x="24093" y="12123"/>
                  <a:pt x="24046" y="12232"/>
                  <a:pt x="23986" y="12328"/>
                </a:cubicBezTo>
                <a:cubicBezTo>
                  <a:pt x="23903" y="12460"/>
                  <a:pt x="23748" y="12433"/>
                  <a:pt x="23614" y="12378"/>
                </a:cubicBezTo>
                <a:cubicBezTo>
                  <a:pt x="23523" y="12341"/>
                  <a:pt x="23540" y="12327"/>
                  <a:pt x="23540" y="12254"/>
                </a:cubicBezTo>
                <a:cubicBezTo>
                  <a:pt x="23661" y="12197"/>
                  <a:pt x="23775" y="12180"/>
                  <a:pt x="23912" y="12229"/>
                </a:cubicBezTo>
                <a:cubicBezTo>
                  <a:pt x="24002" y="12261"/>
                  <a:pt x="24098" y="12318"/>
                  <a:pt x="24185" y="12353"/>
                </a:cubicBezTo>
                <a:cubicBezTo>
                  <a:pt x="24201" y="12361"/>
                  <a:pt x="24218" y="12370"/>
                  <a:pt x="24234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9760" y="411120"/>
            <a:ext cx="615600" cy="392040"/>
          </a:xfrm>
          <a:custGeom>
            <a:avLst/>
            <a:gdLst/>
            <a:ahLst/>
            <a:rect l="l" t="t" r="r" b="b"/>
            <a:pathLst>
              <a:path w="1712" h="1092">
                <a:moveTo>
                  <a:pt x="1538" y="1463"/>
                </a:moveTo>
                <a:cubicBezTo>
                  <a:pt x="1526" y="1512"/>
                  <a:pt x="1548" y="1661"/>
                  <a:pt x="1563" y="1761"/>
                </a:cubicBezTo>
                <a:cubicBezTo>
                  <a:pt x="1579" y="1869"/>
                  <a:pt x="1602" y="1975"/>
                  <a:pt x="1612" y="2084"/>
                </a:cubicBezTo>
                <a:cubicBezTo>
                  <a:pt x="1573" y="1980"/>
                  <a:pt x="1522" y="1871"/>
                  <a:pt x="1488" y="1761"/>
                </a:cubicBezTo>
                <a:cubicBezTo>
                  <a:pt x="1452" y="1644"/>
                  <a:pt x="1395" y="1554"/>
                  <a:pt x="1439" y="1439"/>
                </a:cubicBezTo>
                <a:cubicBezTo>
                  <a:pt x="1586" y="1393"/>
                  <a:pt x="1729" y="1349"/>
                  <a:pt x="1885" y="1364"/>
                </a:cubicBezTo>
                <a:cubicBezTo>
                  <a:pt x="2021" y="1377"/>
                  <a:pt x="2094" y="1458"/>
                  <a:pt x="2208" y="1513"/>
                </a:cubicBezTo>
                <a:cubicBezTo>
                  <a:pt x="2272" y="1544"/>
                  <a:pt x="2338" y="1581"/>
                  <a:pt x="2356" y="1662"/>
                </a:cubicBezTo>
                <a:cubicBezTo>
                  <a:pt x="2392" y="1820"/>
                  <a:pt x="2235" y="1926"/>
                  <a:pt x="2133" y="2009"/>
                </a:cubicBezTo>
                <a:cubicBezTo>
                  <a:pt x="2054" y="2073"/>
                  <a:pt x="1927" y="2184"/>
                  <a:pt x="1836" y="2208"/>
                </a:cubicBezTo>
                <a:cubicBezTo>
                  <a:pt x="1788" y="2220"/>
                  <a:pt x="1683" y="2245"/>
                  <a:pt x="1637" y="2232"/>
                </a:cubicBezTo>
                <a:cubicBezTo>
                  <a:pt x="1612" y="2232"/>
                  <a:pt x="1604" y="2232"/>
                  <a:pt x="1612" y="2208"/>
                </a:cubicBezTo>
              </a:path>
              <a:path w="1712" h="1092">
                <a:moveTo>
                  <a:pt x="2753" y="1240"/>
                </a:moveTo>
                <a:cubicBezTo>
                  <a:pt x="2700" y="1298"/>
                  <a:pt x="2594" y="1402"/>
                  <a:pt x="2555" y="1488"/>
                </a:cubicBezTo>
                <a:cubicBezTo>
                  <a:pt x="2493" y="1623"/>
                  <a:pt x="2499" y="1799"/>
                  <a:pt x="2555" y="1935"/>
                </a:cubicBezTo>
                <a:cubicBezTo>
                  <a:pt x="2598" y="2039"/>
                  <a:pt x="2713" y="2144"/>
                  <a:pt x="2828" y="2133"/>
                </a:cubicBezTo>
                <a:cubicBezTo>
                  <a:pt x="2935" y="2123"/>
                  <a:pt x="3098" y="2023"/>
                  <a:pt x="3125" y="1910"/>
                </a:cubicBezTo>
                <a:cubicBezTo>
                  <a:pt x="3163" y="1754"/>
                  <a:pt x="3116" y="1585"/>
                  <a:pt x="3026" y="1463"/>
                </a:cubicBezTo>
                <a:cubicBezTo>
                  <a:pt x="2904" y="1297"/>
                  <a:pt x="2884" y="1343"/>
                  <a:pt x="3001" y="11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09840" y="357120"/>
            <a:ext cx="955440" cy="366840"/>
          </a:xfrm>
          <a:custGeom>
            <a:avLst/>
            <a:gdLst/>
            <a:ahLst/>
            <a:rect l="l" t="t" r="r" b="b"/>
            <a:pathLst>
              <a:path w="2655" h="1018">
                <a:moveTo>
                  <a:pt x="4266" y="1935"/>
                </a:moveTo>
                <a:cubicBezTo>
                  <a:pt x="4258" y="1805"/>
                  <a:pt x="4260" y="1609"/>
                  <a:pt x="4217" y="1488"/>
                </a:cubicBezTo>
                <a:cubicBezTo>
                  <a:pt x="4209" y="1488"/>
                  <a:pt x="4200" y="1488"/>
                  <a:pt x="4192" y="1488"/>
                </a:cubicBezTo>
                <a:cubicBezTo>
                  <a:pt x="4294" y="1517"/>
                  <a:pt x="4455" y="1698"/>
                  <a:pt x="4539" y="1786"/>
                </a:cubicBezTo>
                <a:cubicBezTo>
                  <a:pt x="4620" y="1871"/>
                  <a:pt x="4666" y="1985"/>
                  <a:pt x="4787" y="2009"/>
                </a:cubicBezTo>
                <a:cubicBezTo>
                  <a:pt x="4837" y="1813"/>
                  <a:pt x="4837" y="1643"/>
                  <a:pt x="4837" y="1439"/>
                </a:cubicBezTo>
                <a:cubicBezTo>
                  <a:pt x="4837" y="1345"/>
                  <a:pt x="4812" y="1262"/>
                  <a:pt x="4812" y="1166"/>
                </a:cubicBezTo>
                <a:cubicBezTo>
                  <a:pt x="4812" y="1141"/>
                  <a:pt x="4812" y="1133"/>
                  <a:pt x="4812" y="1116"/>
                </a:cubicBezTo>
              </a:path>
              <a:path w="2655" h="1018">
                <a:moveTo>
                  <a:pt x="5556" y="1240"/>
                </a:moveTo>
                <a:cubicBezTo>
                  <a:pt x="5446" y="1240"/>
                  <a:pt x="5430" y="1276"/>
                  <a:pt x="5358" y="1364"/>
                </a:cubicBezTo>
                <a:cubicBezTo>
                  <a:pt x="5259" y="1484"/>
                  <a:pt x="5165" y="1614"/>
                  <a:pt x="5259" y="1761"/>
                </a:cubicBezTo>
                <a:cubicBezTo>
                  <a:pt x="5355" y="1911"/>
                  <a:pt x="5579" y="1934"/>
                  <a:pt x="5705" y="1811"/>
                </a:cubicBezTo>
                <a:cubicBezTo>
                  <a:pt x="5829" y="1691"/>
                  <a:pt x="5827" y="1503"/>
                  <a:pt x="5755" y="1364"/>
                </a:cubicBezTo>
                <a:cubicBezTo>
                  <a:pt x="5719" y="1294"/>
                  <a:pt x="5624" y="1298"/>
                  <a:pt x="5631" y="1215"/>
                </a:cubicBezTo>
                <a:cubicBezTo>
                  <a:pt x="5639" y="1190"/>
                  <a:pt x="5647" y="1166"/>
                  <a:pt x="5655" y="1141"/>
                </a:cubicBezTo>
              </a:path>
              <a:path w="2655" h="1018">
                <a:moveTo>
                  <a:pt x="5829" y="1042"/>
                </a:moveTo>
                <a:cubicBezTo>
                  <a:pt x="5995" y="1116"/>
                  <a:pt x="6120" y="1075"/>
                  <a:pt x="6300" y="1067"/>
                </a:cubicBezTo>
                <a:cubicBezTo>
                  <a:pt x="6468" y="1059"/>
                  <a:pt x="6586" y="1043"/>
                  <a:pt x="6747" y="1017"/>
                </a:cubicBezTo>
                <a:cubicBezTo>
                  <a:pt x="6798" y="1017"/>
                  <a:pt x="6817" y="1016"/>
                  <a:pt x="6846" y="992"/>
                </a:cubicBezTo>
              </a:path>
              <a:path w="2655" h="1018">
                <a:moveTo>
                  <a:pt x="6499" y="1042"/>
                </a:moveTo>
                <a:cubicBezTo>
                  <a:pt x="6452" y="1100"/>
                  <a:pt x="6419" y="1166"/>
                  <a:pt x="6400" y="1240"/>
                </a:cubicBezTo>
                <a:cubicBezTo>
                  <a:pt x="6361" y="1396"/>
                  <a:pt x="6335" y="1555"/>
                  <a:pt x="6300" y="1712"/>
                </a:cubicBezTo>
                <a:cubicBezTo>
                  <a:pt x="6282" y="1793"/>
                  <a:pt x="6300" y="1951"/>
                  <a:pt x="6251" y="19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30680" y="258840"/>
            <a:ext cx="1206360" cy="376200"/>
          </a:xfrm>
          <a:custGeom>
            <a:avLst/>
            <a:gdLst/>
            <a:ahLst/>
            <a:rect l="l" t="t" r="r" b="b"/>
            <a:pathLst>
              <a:path w="3350" h="1043">
                <a:moveTo>
                  <a:pt x="8359" y="744"/>
                </a:moveTo>
                <a:cubicBezTo>
                  <a:pt x="8232" y="744"/>
                  <a:pt x="8193" y="719"/>
                  <a:pt x="8062" y="769"/>
                </a:cubicBezTo>
                <a:cubicBezTo>
                  <a:pt x="7960" y="808"/>
                  <a:pt x="7920" y="858"/>
                  <a:pt x="7863" y="943"/>
                </a:cubicBezTo>
                <a:cubicBezTo>
                  <a:pt x="7990" y="1069"/>
                  <a:pt x="8131" y="1048"/>
                  <a:pt x="8310" y="1091"/>
                </a:cubicBezTo>
                <a:cubicBezTo>
                  <a:pt x="8370" y="1111"/>
                  <a:pt x="8385" y="1110"/>
                  <a:pt x="8409" y="1141"/>
                </a:cubicBezTo>
                <a:cubicBezTo>
                  <a:pt x="8393" y="1241"/>
                  <a:pt x="8362" y="1412"/>
                  <a:pt x="8210" y="1389"/>
                </a:cubicBezTo>
                <a:cubicBezTo>
                  <a:pt x="8114" y="1340"/>
                  <a:pt x="8081" y="1327"/>
                  <a:pt x="8086" y="1240"/>
                </a:cubicBezTo>
              </a:path>
              <a:path w="3350" h="1043">
                <a:moveTo>
                  <a:pt x="8781" y="868"/>
                </a:moveTo>
                <a:cubicBezTo>
                  <a:pt x="8804" y="959"/>
                  <a:pt x="8835" y="1065"/>
                  <a:pt x="8855" y="1166"/>
                </a:cubicBezTo>
                <a:cubicBezTo>
                  <a:pt x="8874" y="1259"/>
                  <a:pt x="8880" y="1321"/>
                  <a:pt x="8880" y="1414"/>
                </a:cubicBezTo>
              </a:path>
              <a:path w="3350" h="1043">
                <a:moveTo>
                  <a:pt x="9103" y="1761"/>
                </a:moveTo>
                <a:cubicBezTo>
                  <a:pt x="9122" y="1591"/>
                  <a:pt x="9148" y="1428"/>
                  <a:pt x="9203" y="1265"/>
                </a:cubicBezTo>
                <a:cubicBezTo>
                  <a:pt x="9211" y="1248"/>
                  <a:pt x="9219" y="1232"/>
                  <a:pt x="9227" y="1215"/>
                </a:cubicBezTo>
                <a:cubicBezTo>
                  <a:pt x="9256" y="1317"/>
                  <a:pt x="9333" y="1395"/>
                  <a:pt x="9376" y="1488"/>
                </a:cubicBezTo>
                <a:cubicBezTo>
                  <a:pt x="9376" y="1496"/>
                  <a:pt x="9376" y="1505"/>
                  <a:pt x="9376" y="1513"/>
                </a:cubicBezTo>
                <a:cubicBezTo>
                  <a:pt x="9478" y="1341"/>
                  <a:pt x="9557" y="1165"/>
                  <a:pt x="9649" y="992"/>
                </a:cubicBezTo>
                <a:cubicBezTo>
                  <a:pt x="9694" y="1007"/>
                  <a:pt x="9756" y="1163"/>
                  <a:pt x="9798" y="1215"/>
                </a:cubicBezTo>
                <a:cubicBezTo>
                  <a:pt x="9842" y="1270"/>
                  <a:pt x="9835" y="1292"/>
                  <a:pt x="9872" y="1339"/>
                </a:cubicBezTo>
              </a:path>
              <a:path w="3350" h="1043">
                <a:moveTo>
                  <a:pt x="10170" y="1116"/>
                </a:moveTo>
                <a:cubicBezTo>
                  <a:pt x="10217" y="1244"/>
                  <a:pt x="10238" y="1380"/>
                  <a:pt x="10269" y="1513"/>
                </a:cubicBezTo>
                <a:cubicBezTo>
                  <a:pt x="10269" y="1376"/>
                  <a:pt x="10276" y="1226"/>
                  <a:pt x="10294" y="1091"/>
                </a:cubicBezTo>
                <a:cubicBezTo>
                  <a:pt x="10306" y="1002"/>
                  <a:pt x="10347" y="935"/>
                  <a:pt x="10443" y="918"/>
                </a:cubicBezTo>
                <a:cubicBezTo>
                  <a:pt x="10524" y="904"/>
                  <a:pt x="10576" y="916"/>
                  <a:pt x="10616" y="967"/>
                </a:cubicBezTo>
                <a:cubicBezTo>
                  <a:pt x="10687" y="1058"/>
                  <a:pt x="10551" y="1118"/>
                  <a:pt x="10492" y="1166"/>
                </a:cubicBezTo>
                <a:cubicBezTo>
                  <a:pt x="10448" y="1202"/>
                  <a:pt x="10401" y="1191"/>
                  <a:pt x="10344" y="1191"/>
                </a:cubicBezTo>
              </a:path>
              <a:path w="3350" h="1043">
                <a:moveTo>
                  <a:pt x="10815" y="893"/>
                </a:moveTo>
                <a:cubicBezTo>
                  <a:pt x="10852" y="942"/>
                  <a:pt x="10861" y="1002"/>
                  <a:pt x="10864" y="1067"/>
                </a:cubicBezTo>
                <a:cubicBezTo>
                  <a:pt x="10868" y="1171"/>
                  <a:pt x="10844" y="1262"/>
                  <a:pt x="10840" y="1364"/>
                </a:cubicBezTo>
                <a:cubicBezTo>
                  <a:pt x="10838" y="1405"/>
                  <a:pt x="10840" y="1447"/>
                  <a:pt x="10840" y="1488"/>
                </a:cubicBezTo>
                <a:cubicBezTo>
                  <a:pt x="10951" y="1488"/>
                  <a:pt x="11053" y="1477"/>
                  <a:pt x="11162" y="1463"/>
                </a:cubicBezTo>
                <a:cubicBezTo>
                  <a:pt x="11205" y="1457"/>
                  <a:pt x="11199" y="1477"/>
                  <a:pt x="11212" y="14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95880" y="214200"/>
            <a:ext cx="598320" cy="357480"/>
          </a:xfrm>
          <a:custGeom>
            <a:avLst/>
            <a:gdLst/>
            <a:ahLst/>
            <a:rect l="l" t="t" r="r" b="b"/>
            <a:pathLst>
              <a:path w="1663" h="994">
                <a:moveTo>
                  <a:pt x="12030" y="595"/>
                </a:moveTo>
                <a:cubicBezTo>
                  <a:pt x="12030" y="797"/>
                  <a:pt x="12008" y="991"/>
                  <a:pt x="11981" y="1191"/>
                </a:cubicBezTo>
                <a:cubicBezTo>
                  <a:pt x="11963" y="1326"/>
                  <a:pt x="11947" y="1458"/>
                  <a:pt x="11931" y="1588"/>
                </a:cubicBezTo>
              </a:path>
              <a:path w="1663" h="994">
                <a:moveTo>
                  <a:pt x="12402" y="1091"/>
                </a:moveTo>
                <a:cubicBezTo>
                  <a:pt x="12402" y="1208"/>
                  <a:pt x="12433" y="1302"/>
                  <a:pt x="12452" y="1414"/>
                </a:cubicBezTo>
                <a:cubicBezTo>
                  <a:pt x="12452" y="1430"/>
                  <a:pt x="12452" y="1447"/>
                  <a:pt x="12452" y="1463"/>
                </a:cubicBezTo>
                <a:cubicBezTo>
                  <a:pt x="12452" y="1284"/>
                  <a:pt x="12402" y="1036"/>
                  <a:pt x="12477" y="868"/>
                </a:cubicBezTo>
                <a:cubicBezTo>
                  <a:pt x="12499" y="820"/>
                  <a:pt x="12951" y="802"/>
                  <a:pt x="12998" y="794"/>
                </a:cubicBezTo>
                <a:cubicBezTo>
                  <a:pt x="13072" y="775"/>
                  <a:pt x="13131" y="767"/>
                  <a:pt x="13072" y="769"/>
                </a:cubicBezTo>
              </a:path>
              <a:path w="1663" h="994">
                <a:moveTo>
                  <a:pt x="12477" y="1191"/>
                </a:moveTo>
                <a:cubicBezTo>
                  <a:pt x="12628" y="1183"/>
                  <a:pt x="12773" y="1152"/>
                  <a:pt x="12923" y="1141"/>
                </a:cubicBezTo>
              </a:path>
              <a:path w="1663" h="994">
                <a:moveTo>
                  <a:pt x="13593" y="744"/>
                </a:moveTo>
                <a:cubicBezTo>
                  <a:pt x="13571" y="896"/>
                  <a:pt x="13486" y="1019"/>
                  <a:pt x="13444" y="1166"/>
                </a:cubicBezTo>
                <a:cubicBezTo>
                  <a:pt x="13424" y="1266"/>
                  <a:pt x="13426" y="1286"/>
                  <a:pt x="13395" y="1339"/>
                </a:cubicBezTo>
              </a:path>
              <a:path w="1663" h="994">
                <a:moveTo>
                  <a:pt x="13246" y="868"/>
                </a:moveTo>
                <a:cubicBezTo>
                  <a:pt x="13246" y="963"/>
                  <a:pt x="13258" y="1018"/>
                  <a:pt x="13320" y="1091"/>
                </a:cubicBezTo>
                <a:cubicBezTo>
                  <a:pt x="13362" y="1133"/>
                  <a:pt x="13370" y="1158"/>
                  <a:pt x="13395" y="11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56160" y="169920"/>
            <a:ext cx="1438200" cy="374760"/>
          </a:xfrm>
          <a:custGeom>
            <a:avLst/>
            <a:gdLst/>
            <a:ahLst/>
            <a:rect l="l" t="t" r="r" b="b"/>
            <a:pathLst>
              <a:path w="3994" h="1043">
                <a:moveTo>
                  <a:pt x="15205" y="496"/>
                </a:moveTo>
                <a:cubicBezTo>
                  <a:pt x="15125" y="617"/>
                  <a:pt x="15144" y="800"/>
                  <a:pt x="15156" y="943"/>
                </a:cubicBezTo>
                <a:cubicBezTo>
                  <a:pt x="15164" y="992"/>
                  <a:pt x="15172" y="1042"/>
                  <a:pt x="15180" y="1091"/>
                </a:cubicBezTo>
                <a:cubicBezTo>
                  <a:pt x="15180" y="1191"/>
                  <a:pt x="15193" y="992"/>
                  <a:pt x="15205" y="893"/>
                </a:cubicBezTo>
                <a:cubicBezTo>
                  <a:pt x="15232" y="677"/>
                  <a:pt x="15268" y="447"/>
                  <a:pt x="15553" y="471"/>
                </a:cubicBezTo>
                <a:cubicBezTo>
                  <a:pt x="15799" y="492"/>
                  <a:pt x="15712" y="677"/>
                  <a:pt x="15577" y="769"/>
                </a:cubicBezTo>
                <a:cubicBezTo>
                  <a:pt x="15528" y="794"/>
                  <a:pt x="15478" y="818"/>
                  <a:pt x="15429" y="843"/>
                </a:cubicBezTo>
                <a:cubicBezTo>
                  <a:pt x="15412" y="843"/>
                  <a:pt x="15396" y="843"/>
                  <a:pt x="15379" y="843"/>
                </a:cubicBezTo>
                <a:cubicBezTo>
                  <a:pt x="15493" y="907"/>
                  <a:pt x="15613" y="968"/>
                  <a:pt x="15701" y="1067"/>
                </a:cubicBezTo>
                <a:cubicBezTo>
                  <a:pt x="15789" y="1165"/>
                  <a:pt x="15738" y="1167"/>
                  <a:pt x="15850" y="1067"/>
                </a:cubicBezTo>
              </a:path>
              <a:path w="3994" h="1043">
                <a:moveTo>
                  <a:pt x="16272" y="645"/>
                </a:moveTo>
                <a:cubicBezTo>
                  <a:pt x="16179" y="668"/>
                  <a:pt x="16082" y="893"/>
                  <a:pt x="16049" y="967"/>
                </a:cubicBezTo>
                <a:cubicBezTo>
                  <a:pt x="16012" y="1078"/>
                  <a:pt x="16024" y="1098"/>
                  <a:pt x="15974" y="1141"/>
                </a:cubicBezTo>
                <a:cubicBezTo>
                  <a:pt x="16040" y="989"/>
                  <a:pt x="16144" y="826"/>
                  <a:pt x="16222" y="670"/>
                </a:cubicBezTo>
                <a:cubicBezTo>
                  <a:pt x="16242" y="629"/>
                  <a:pt x="16240" y="613"/>
                  <a:pt x="16272" y="620"/>
                </a:cubicBezTo>
                <a:cubicBezTo>
                  <a:pt x="16293" y="829"/>
                  <a:pt x="16349" y="1004"/>
                  <a:pt x="16446" y="1191"/>
                </a:cubicBezTo>
                <a:cubicBezTo>
                  <a:pt x="16482" y="1260"/>
                  <a:pt x="16549" y="1362"/>
                  <a:pt x="16520" y="1290"/>
                </a:cubicBezTo>
              </a:path>
              <a:path w="3994" h="1043">
                <a:moveTo>
                  <a:pt x="16123" y="1017"/>
                </a:moveTo>
                <a:cubicBezTo>
                  <a:pt x="16247" y="1042"/>
                  <a:pt x="16288" y="1050"/>
                  <a:pt x="16371" y="1017"/>
                </a:cubicBezTo>
              </a:path>
              <a:path w="3994" h="1043">
                <a:moveTo>
                  <a:pt x="16470" y="794"/>
                </a:moveTo>
                <a:cubicBezTo>
                  <a:pt x="16614" y="805"/>
                  <a:pt x="16721" y="824"/>
                  <a:pt x="16867" y="794"/>
                </a:cubicBezTo>
                <a:cubicBezTo>
                  <a:pt x="16954" y="776"/>
                  <a:pt x="16974" y="786"/>
                  <a:pt x="16991" y="719"/>
                </a:cubicBezTo>
              </a:path>
              <a:path w="3994" h="1043">
                <a:moveTo>
                  <a:pt x="16743" y="769"/>
                </a:moveTo>
                <a:cubicBezTo>
                  <a:pt x="16743" y="920"/>
                  <a:pt x="16765" y="1064"/>
                  <a:pt x="16768" y="1215"/>
                </a:cubicBezTo>
                <a:cubicBezTo>
                  <a:pt x="16770" y="1296"/>
                  <a:pt x="16743" y="1323"/>
                  <a:pt x="16793" y="1339"/>
                </a:cubicBezTo>
              </a:path>
              <a:path w="3994" h="1043">
                <a:moveTo>
                  <a:pt x="17314" y="744"/>
                </a:moveTo>
                <a:cubicBezTo>
                  <a:pt x="17344" y="897"/>
                  <a:pt x="17356" y="1057"/>
                  <a:pt x="17363" y="1215"/>
                </a:cubicBezTo>
                <a:cubicBezTo>
                  <a:pt x="17363" y="1243"/>
                  <a:pt x="17365" y="1249"/>
                  <a:pt x="17388" y="1215"/>
                </a:cubicBezTo>
              </a:path>
              <a:path w="3994" h="1043">
                <a:moveTo>
                  <a:pt x="17810" y="670"/>
                </a:moveTo>
                <a:cubicBezTo>
                  <a:pt x="17692" y="740"/>
                  <a:pt x="17652" y="885"/>
                  <a:pt x="17611" y="1017"/>
                </a:cubicBezTo>
                <a:cubicBezTo>
                  <a:pt x="17556" y="1191"/>
                  <a:pt x="17531" y="1399"/>
                  <a:pt x="17735" y="1488"/>
                </a:cubicBezTo>
                <a:cubicBezTo>
                  <a:pt x="17878" y="1550"/>
                  <a:pt x="18036" y="1499"/>
                  <a:pt x="18107" y="1364"/>
                </a:cubicBezTo>
                <a:cubicBezTo>
                  <a:pt x="18161" y="1261"/>
                  <a:pt x="18202" y="1066"/>
                  <a:pt x="18107" y="967"/>
                </a:cubicBezTo>
                <a:cubicBezTo>
                  <a:pt x="18059" y="917"/>
                  <a:pt x="17928" y="891"/>
                  <a:pt x="17859" y="918"/>
                </a:cubicBezTo>
                <a:cubicBezTo>
                  <a:pt x="17813" y="936"/>
                  <a:pt x="17753" y="996"/>
                  <a:pt x="17735" y="1042"/>
                </a:cubicBezTo>
                <a:cubicBezTo>
                  <a:pt x="17719" y="1081"/>
                  <a:pt x="17693" y="1102"/>
                  <a:pt x="17735" y="1116"/>
                </a:cubicBezTo>
              </a:path>
              <a:path w="3994" h="1043">
                <a:moveTo>
                  <a:pt x="19050" y="670"/>
                </a:moveTo>
                <a:cubicBezTo>
                  <a:pt x="19026" y="597"/>
                  <a:pt x="18879" y="590"/>
                  <a:pt x="18802" y="595"/>
                </a:cubicBezTo>
                <a:cubicBezTo>
                  <a:pt x="18720" y="601"/>
                  <a:pt x="18493" y="658"/>
                  <a:pt x="18604" y="794"/>
                </a:cubicBezTo>
                <a:cubicBezTo>
                  <a:pt x="18723" y="940"/>
                  <a:pt x="18927" y="965"/>
                  <a:pt x="19075" y="1067"/>
                </a:cubicBezTo>
                <a:cubicBezTo>
                  <a:pt x="19167" y="1131"/>
                  <a:pt x="19158" y="1193"/>
                  <a:pt x="19075" y="1265"/>
                </a:cubicBezTo>
                <a:cubicBezTo>
                  <a:pt x="18970" y="1356"/>
                  <a:pt x="18752" y="1312"/>
                  <a:pt x="18752" y="1141"/>
                </a:cubicBezTo>
                <a:cubicBezTo>
                  <a:pt x="18769" y="1116"/>
                  <a:pt x="18785" y="1092"/>
                  <a:pt x="18802" y="10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86760" y="177840"/>
            <a:ext cx="517320" cy="322200"/>
          </a:xfrm>
          <a:custGeom>
            <a:avLst/>
            <a:gdLst/>
            <a:ahLst/>
            <a:rect l="l" t="t" r="r" b="b"/>
            <a:pathLst>
              <a:path w="1439" h="894">
                <a:moveTo>
                  <a:pt x="20241" y="769"/>
                </a:moveTo>
                <a:cubicBezTo>
                  <a:pt x="20437" y="725"/>
                  <a:pt x="20633" y="700"/>
                  <a:pt x="20836" y="719"/>
                </a:cubicBezTo>
                <a:cubicBezTo>
                  <a:pt x="20937" y="739"/>
                  <a:pt x="20957" y="758"/>
                  <a:pt x="21010" y="719"/>
                </a:cubicBezTo>
              </a:path>
              <a:path w="1439" h="894">
                <a:moveTo>
                  <a:pt x="20638" y="496"/>
                </a:moveTo>
                <a:cubicBezTo>
                  <a:pt x="20599" y="593"/>
                  <a:pt x="20558" y="675"/>
                  <a:pt x="20538" y="794"/>
                </a:cubicBezTo>
                <a:cubicBezTo>
                  <a:pt x="20507" y="976"/>
                  <a:pt x="20489" y="1159"/>
                  <a:pt x="20464" y="1339"/>
                </a:cubicBezTo>
                <a:cubicBezTo>
                  <a:pt x="20464" y="1364"/>
                  <a:pt x="20464" y="1372"/>
                  <a:pt x="20489" y="1364"/>
                </a:cubicBezTo>
              </a:path>
              <a:path w="1439" h="894">
                <a:moveTo>
                  <a:pt x="21258" y="819"/>
                </a:moveTo>
                <a:cubicBezTo>
                  <a:pt x="21187" y="791"/>
                  <a:pt x="21081" y="866"/>
                  <a:pt x="21034" y="943"/>
                </a:cubicBezTo>
                <a:cubicBezTo>
                  <a:pt x="20951" y="1080"/>
                  <a:pt x="20946" y="1186"/>
                  <a:pt x="21010" y="1315"/>
                </a:cubicBezTo>
                <a:cubicBezTo>
                  <a:pt x="21061" y="1419"/>
                  <a:pt x="21181" y="1389"/>
                  <a:pt x="21282" y="1389"/>
                </a:cubicBezTo>
                <a:cubicBezTo>
                  <a:pt x="21380" y="1389"/>
                  <a:pt x="21443" y="1370"/>
                  <a:pt x="21506" y="1290"/>
                </a:cubicBezTo>
                <a:cubicBezTo>
                  <a:pt x="21582" y="1193"/>
                  <a:pt x="21607" y="1138"/>
                  <a:pt x="21654" y="1017"/>
                </a:cubicBezTo>
                <a:cubicBezTo>
                  <a:pt x="21685" y="937"/>
                  <a:pt x="21647" y="831"/>
                  <a:pt x="21580" y="769"/>
                </a:cubicBezTo>
                <a:cubicBezTo>
                  <a:pt x="21490" y="685"/>
                  <a:pt x="21412" y="687"/>
                  <a:pt x="21307" y="695"/>
                </a:cubicBezTo>
                <a:cubicBezTo>
                  <a:pt x="21247" y="699"/>
                  <a:pt x="21213" y="708"/>
                  <a:pt x="21158" y="7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77000" y="625320"/>
            <a:ext cx="277920" cy="276480"/>
          </a:xfrm>
          <a:custGeom>
            <a:avLst/>
            <a:gdLst/>
            <a:ahLst/>
            <a:rect l="l" t="t" r="r" b="b"/>
            <a:pathLst>
              <a:path w="770" h="770">
                <a:moveTo>
                  <a:pt x="19050" y="2034"/>
                </a:moveTo>
                <a:cubicBezTo>
                  <a:pt x="19015" y="1977"/>
                  <a:pt x="18972" y="1851"/>
                  <a:pt x="18926" y="1836"/>
                </a:cubicBezTo>
                <a:cubicBezTo>
                  <a:pt x="18902" y="2016"/>
                  <a:pt x="18859" y="2198"/>
                  <a:pt x="18827" y="2381"/>
                </a:cubicBezTo>
                <a:cubicBezTo>
                  <a:pt x="18827" y="2384"/>
                  <a:pt x="18899" y="2043"/>
                  <a:pt x="18926" y="1960"/>
                </a:cubicBezTo>
                <a:cubicBezTo>
                  <a:pt x="18946" y="1899"/>
                  <a:pt x="18944" y="1884"/>
                  <a:pt x="18976" y="1860"/>
                </a:cubicBezTo>
                <a:cubicBezTo>
                  <a:pt x="19035" y="1965"/>
                  <a:pt x="19010" y="2221"/>
                  <a:pt x="19124" y="2183"/>
                </a:cubicBezTo>
                <a:cubicBezTo>
                  <a:pt x="19295" y="2126"/>
                  <a:pt x="19394" y="1854"/>
                  <a:pt x="19521" y="1736"/>
                </a:cubicBezTo>
                <a:cubicBezTo>
                  <a:pt x="19512" y="1964"/>
                  <a:pt x="19468" y="2203"/>
                  <a:pt x="19496" y="2431"/>
                </a:cubicBezTo>
                <a:cubicBezTo>
                  <a:pt x="19522" y="2509"/>
                  <a:pt x="19534" y="2531"/>
                  <a:pt x="19596" y="24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15120" y="642960"/>
            <a:ext cx="804960" cy="258840"/>
          </a:xfrm>
          <a:custGeom>
            <a:avLst/>
            <a:gdLst/>
            <a:ahLst/>
            <a:rect l="l" t="t" r="r" b="b"/>
            <a:pathLst>
              <a:path w="2234" h="720">
                <a:moveTo>
                  <a:pt x="20042" y="1984"/>
                </a:moveTo>
                <a:cubicBezTo>
                  <a:pt x="20042" y="2160"/>
                  <a:pt x="20032" y="2334"/>
                  <a:pt x="20067" y="2505"/>
                </a:cubicBezTo>
              </a:path>
              <a:path w="2234" h="720">
                <a:moveTo>
                  <a:pt x="20340" y="1910"/>
                </a:moveTo>
                <a:cubicBezTo>
                  <a:pt x="20498" y="2041"/>
                  <a:pt x="20627" y="2219"/>
                  <a:pt x="20786" y="2356"/>
                </a:cubicBezTo>
                <a:cubicBezTo>
                  <a:pt x="20811" y="2373"/>
                  <a:pt x="20836" y="2389"/>
                  <a:pt x="20861" y="2406"/>
                </a:cubicBezTo>
              </a:path>
              <a:path w="2234" h="720">
                <a:moveTo>
                  <a:pt x="21034" y="1935"/>
                </a:moveTo>
                <a:cubicBezTo>
                  <a:pt x="20874" y="2066"/>
                  <a:pt x="20726" y="2204"/>
                  <a:pt x="20588" y="2356"/>
                </a:cubicBezTo>
                <a:cubicBezTo>
                  <a:pt x="20580" y="2364"/>
                  <a:pt x="20571" y="2373"/>
                  <a:pt x="20563" y="2381"/>
                </a:cubicBezTo>
              </a:path>
              <a:path w="2234" h="720">
                <a:moveTo>
                  <a:pt x="21431" y="1984"/>
                </a:moveTo>
                <a:cubicBezTo>
                  <a:pt x="21471" y="1935"/>
                  <a:pt x="21521" y="1866"/>
                  <a:pt x="21456" y="1811"/>
                </a:cubicBezTo>
                <a:cubicBezTo>
                  <a:pt x="21381" y="1748"/>
                  <a:pt x="21183" y="1879"/>
                  <a:pt x="21134" y="1935"/>
                </a:cubicBezTo>
                <a:cubicBezTo>
                  <a:pt x="21034" y="2049"/>
                  <a:pt x="21135" y="2223"/>
                  <a:pt x="21208" y="2307"/>
                </a:cubicBezTo>
                <a:cubicBezTo>
                  <a:pt x="21269" y="2377"/>
                  <a:pt x="21244" y="2401"/>
                  <a:pt x="21307" y="2456"/>
                </a:cubicBezTo>
                <a:cubicBezTo>
                  <a:pt x="21376" y="2516"/>
                  <a:pt x="21563" y="2546"/>
                  <a:pt x="21654" y="2505"/>
                </a:cubicBezTo>
                <a:cubicBezTo>
                  <a:pt x="21662" y="2489"/>
                  <a:pt x="21671" y="2472"/>
                  <a:pt x="21679" y="2456"/>
                </a:cubicBezTo>
              </a:path>
              <a:path w="2234" h="720">
                <a:moveTo>
                  <a:pt x="21183" y="2183"/>
                </a:moveTo>
                <a:cubicBezTo>
                  <a:pt x="21287" y="2204"/>
                  <a:pt x="21375" y="2208"/>
                  <a:pt x="21481" y="2208"/>
                </a:cubicBezTo>
              </a:path>
              <a:path w="2234" h="720">
                <a:moveTo>
                  <a:pt x="21679" y="2034"/>
                </a:moveTo>
                <a:cubicBezTo>
                  <a:pt x="21739" y="2114"/>
                  <a:pt x="21686" y="2213"/>
                  <a:pt x="21679" y="2307"/>
                </a:cubicBezTo>
                <a:cubicBezTo>
                  <a:pt x="21679" y="2340"/>
                  <a:pt x="21679" y="2373"/>
                  <a:pt x="21679" y="2406"/>
                </a:cubicBezTo>
                <a:cubicBezTo>
                  <a:pt x="21762" y="2544"/>
                  <a:pt x="21748" y="2068"/>
                  <a:pt x="21754" y="2034"/>
                </a:cubicBezTo>
                <a:cubicBezTo>
                  <a:pt x="21775" y="1910"/>
                  <a:pt x="21777" y="1926"/>
                  <a:pt x="21878" y="1885"/>
                </a:cubicBezTo>
                <a:cubicBezTo>
                  <a:pt x="22001" y="1952"/>
                  <a:pt x="22167" y="2061"/>
                  <a:pt x="22250" y="2183"/>
                </a:cubicBezTo>
                <a:cubicBezTo>
                  <a:pt x="22327" y="2296"/>
                  <a:pt x="22264" y="2415"/>
                  <a:pt x="22151" y="2456"/>
                </a:cubicBezTo>
                <a:cubicBezTo>
                  <a:pt x="22057" y="2490"/>
                  <a:pt x="21894" y="2506"/>
                  <a:pt x="21803" y="2456"/>
                </a:cubicBezTo>
                <a:cubicBezTo>
                  <a:pt x="21778" y="2439"/>
                  <a:pt x="21754" y="2423"/>
                  <a:pt x="21729" y="24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19920" y="1054080"/>
            <a:ext cx="216000" cy="258840"/>
          </a:xfrm>
          <a:custGeom>
            <a:avLst/>
            <a:gdLst/>
            <a:ahLst/>
            <a:rect l="l" t="t" r="r" b="b"/>
            <a:pathLst>
              <a:path w="596" h="720">
                <a:moveTo>
                  <a:pt x="19273" y="3001"/>
                </a:moveTo>
                <a:cubicBezTo>
                  <a:pt x="19239" y="3187"/>
                  <a:pt x="19224" y="3358"/>
                  <a:pt x="19224" y="3547"/>
                </a:cubicBezTo>
                <a:cubicBezTo>
                  <a:pt x="19245" y="3389"/>
                  <a:pt x="19266" y="3232"/>
                  <a:pt x="19298" y="3076"/>
                </a:cubicBezTo>
                <a:cubicBezTo>
                  <a:pt x="19324" y="3233"/>
                  <a:pt x="19421" y="3376"/>
                  <a:pt x="19521" y="3497"/>
                </a:cubicBezTo>
                <a:cubicBezTo>
                  <a:pt x="19553" y="3536"/>
                  <a:pt x="19671" y="3669"/>
                  <a:pt x="19695" y="3621"/>
                </a:cubicBezTo>
                <a:cubicBezTo>
                  <a:pt x="19750" y="3402"/>
                  <a:pt x="19800" y="3176"/>
                  <a:pt x="19819" y="2952"/>
                </a:cubicBezTo>
                <a:cubicBezTo>
                  <a:pt x="19819" y="2944"/>
                  <a:pt x="19819" y="2935"/>
                  <a:pt x="19819" y="29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59760" y="1054080"/>
            <a:ext cx="1135080" cy="223920"/>
          </a:xfrm>
          <a:custGeom>
            <a:avLst/>
            <a:gdLst/>
            <a:ahLst/>
            <a:rect l="l" t="t" r="r" b="b"/>
            <a:pathLst>
              <a:path w="3151" h="621">
                <a:moveTo>
                  <a:pt x="20216" y="2927"/>
                </a:moveTo>
                <a:cubicBezTo>
                  <a:pt x="20186" y="3048"/>
                  <a:pt x="20110" y="3223"/>
                  <a:pt x="20191" y="3349"/>
                </a:cubicBezTo>
                <a:cubicBezTo>
                  <a:pt x="20364" y="3619"/>
                  <a:pt x="20581" y="3224"/>
                  <a:pt x="20638" y="3101"/>
                </a:cubicBezTo>
                <a:cubicBezTo>
                  <a:pt x="20646" y="3076"/>
                  <a:pt x="20654" y="3051"/>
                  <a:pt x="20662" y="3026"/>
                </a:cubicBezTo>
                <a:cubicBezTo>
                  <a:pt x="20662" y="2917"/>
                  <a:pt x="20630" y="3191"/>
                  <a:pt x="20638" y="3299"/>
                </a:cubicBezTo>
                <a:cubicBezTo>
                  <a:pt x="20656" y="3390"/>
                  <a:pt x="20630" y="3431"/>
                  <a:pt x="20687" y="3423"/>
                </a:cubicBezTo>
              </a:path>
              <a:path w="3151" h="621">
                <a:moveTo>
                  <a:pt x="20960" y="3200"/>
                </a:moveTo>
                <a:cubicBezTo>
                  <a:pt x="20983" y="3283"/>
                  <a:pt x="20985" y="3359"/>
                  <a:pt x="20985" y="3448"/>
                </a:cubicBezTo>
                <a:cubicBezTo>
                  <a:pt x="21000" y="3282"/>
                  <a:pt x="21008" y="3113"/>
                  <a:pt x="21034" y="2952"/>
                </a:cubicBezTo>
                <a:cubicBezTo>
                  <a:pt x="21049" y="3006"/>
                  <a:pt x="21138" y="3329"/>
                  <a:pt x="21208" y="3324"/>
                </a:cubicBezTo>
                <a:cubicBezTo>
                  <a:pt x="21320" y="3317"/>
                  <a:pt x="21396" y="3057"/>
                  <a:pt x="21431" y="2977"/>
                </a:cubicBezTo>
                <a:cubicBezTo>
                  <a:pt x="21455" y="3092"/>
                  <a:pt x="21519" y="3208"/>
                  <a:pt x="21555" y="3324"/>
                </a:cubicBezTo>
                <a:cubicBezTo>
                  <a:pt x="21563" y="3349"/>
                  <a:pt x="21572" y="3373"/>
                  <a:pt x="21580" y="3398"/>
                </a:cubicBezTo>
              </a:path>
              <a:path w="3151" h="621">
                <a:moveTo>
                  <a:pt x="21828" y="3150"/>
                </a:moveTo>
                <a:cubicBezTo>
                  <a:pt x="21814" y="3249"/>
                  <a:pt x="21815" y="3274"/>
                  <a:pt x="21828" y="3373"/>
                </a:cubicBezTo>
                <a:cubicBezTo>
                  <a:pt x="21828" y="3499"/>
                  <a:pt x="21833" y="3275"/>
                  <a:pt x="21853" y="3150"/>
                </a:cubicBezTo>
                <a:cubicBezTo>
                  <a:pt x="21893" y="2993"/>
                  <a:pt x="21870" y="2940"/>
                  <a:pt x="21977" y="2927"/>
                </a:cubicBezTo>
                <a:cubicBezTo>
                  <a:pt x="22063" y="2967"/>
                  <a:pt x="22297" y="3099"/>
                  <a:pt x="22101" y="3200"/>
                </a:cubicBezTo>
                <a:cubicBezTo>
                  <a:pt x="21985" y="3223"/>
                  <a:pt x="21952" y="3230"/>
                  <a:pt x="21878" y="3249"/>
                </a:cubicBezTo>
                <a:cubicBezTo>
                  <a:pt x="22018" y="3249"/>
                  <a:pt x="22125" y="3278"/>
                  <a:pt x="22250" y="3349"/>
                </a:cubicBezTo>
                <a:cubicBezTo>
                  <a:pt x="22331" y="3409"/>
                  <a:pt x="22354" y="3414"/>
                  <a:pt x="22374" y="3473"/>
                </a:cubicBezTo>
                <a:cubicBezTo>
                  <a:pt x="22293" y="3506"/>
                  <a:pt x="22005" y="3631"/>
                  <a:pt x="21952" y="3473"/>
                </a:cubicBezTo>
                <a:cubicBezTo>
                  <a:pt x="21960" y="3440"/>
                  <a:pt x="21969" y="3406"/>
                  <a:pt x="21977" y="3373"/>
                </a:cubicBezTo>
              </a:path>
              <a:path w="3151" h="621">
                <a:moveTo>
                  <a:pt x="22721" y="3076"/>
                </a:moveTo>
                <a:cubicBezTo>
                  <a:pt x="22680" y="3042"/>
                  <a:pt x="22638" y="3011"/>
                  <a:pt x="22597" y="2977"/>
                </a:cubicBezTo>
                <a:cubicBezTo>
                  <a:pt x="22505" y="3055"/>
                  <a:pt x="22502" y="3148"/>
                  <a:pt x="22498" y="3274"/>
                </a:cubicBezTo>
                <a:cubicBezTo>
                  <a:pt x="22495" y="3358"/>
                  <a:pt x="22464" y="3418"/>
                  <a:pt x="22448" y="3497"/>
                </a:cubicBezTo>
                <a:cubicBezTo>
                  <a:pt x="22527" y="3577"/>
                  <a:pt x="22697" y="3547"/>
                  <a:pt x="22820" y="3547"/>
                </a:cubicBezTo>
              </a:path>
              <a:path w="3151" h="621">
                <a:moveTo>
                  <a:pt x="22944" y="3026"/>
                </a:moveTo>
                <a:cubicBezTo>
                  <a:pt x="22966" y="3134"/>
                  <a:pt x="22947" y="3232"/>
                  <a:pt x="22944" y="3349"/>
                </a:cubicBezTo>
                <a:cubicBezTo>
                  <a:pt x="22944" y="3440"/>
                  <a:pt x="22944" y="3464"/>
                  <a:pt x="22944" y="3522"/>
                </a:cubicBezTo>
                <a:cubicBezTo>
                  <a:pt x="22988" y="3493"/>
                  <a:pt x="22976" y="3312"/>
                  <a:pt x="22994" y="3249"/>
                </a:cubicBezTo>
                <a:cubicBezTo>
                  <a:pt x="23031" y="3119"/>
                  <a:pt x="23037" y="3019"/>
                  <a:pt x="23192" y="3101"/>
                </a:cubicBezTo>
                <a:cubicBezTo>
                  <a:pt x="23274" y="3161"/>
                  <a:pt x="23297" y="3165"/>
                  <a:pt x="23316" y="3225"/>
                </a:cubicBezTo>
                <a:cubicBezTo>
                  <a:pt x="23233" y="3307"/>
                  <a:pt x="23071" y="3338"/>
                  <a:pt x="22944" y="3373"/>
                </a:cubicBezTo>
                <a:cubicBezTo>
                  <a:pt x="23082" y="3486"/>
                  <a:pt x="23145" y="3519"/>
                  <a:pt x="23316" y="34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518680" y="1081080"/>
            <a:ext cx="134640" cy="231840"/>
          </a:xfrm>
          <a:custGeom>
            <a:avLst/>
            <a:gdLst/>
            <a:ahLst/>
            <a:rect l="l" t="t" r="r" b="b"/>
            <a:pathLst>
              <a:path w="373" h="646">
                <a:moveTo>
                  <a:pt x="24036" y="3051"/>
                </a:moveTo>
                <a:cubicBezTo>
                  <a:pt x="23874" y="3016"/>
                  <a:pt x="23845" y="3006"/>
                  <a:pt x="23688" y="3051"/>
                </a:cubicBezTo>
                <a:cubicBezTo>
                  <a:pt x="23688" y="3178"/>
                  <a:pt x="23756" y="3224"/>
                  <a:pt x="23862" y="3299"/>
                </a:cubicBezTo>
                <a:cubicBezTo>
                  <a:pt x="23963" y="3371"/>
                  <a:pt x="24126" y="3470"/>
                  <a:pt x="23986" y="3597"/>
                </a:cubicBezTo>
                <a:cubicBezTo>
                  <a:pt x="23859" y="3711"/>
                  <a:pt x="23759" y="3646"/>
                  <a:pt x="23713" y="3522"/>
                </a:cubicBezTo>
                <a:cubicBezTo>
                  <a:pt x="23697" y="3472"/>
                  <a:pt x="23680" y="3423"/>
                  <a:pt x="23664" y="33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85000" y="3232080"/>
            <a:ext cx="1062000" cy="357120"/>
          </a:xfrm>
          <a:custGeom>
            <a:avLst/>
            <a:gdLst/>
            <a:ahLst/>
            <a:rect l="l" t="t" r="r" b="b"/>
            <a:pathLst>
              <a:path w="2953" h="993">
                <a:moveTo>
                  <a:pt x="19199" y="9823"/>
                </a:moveTo>
                <a:cubicBezTo>
                  <a:pt x="19207" y="9823"/>
                  <a:pt x="19216" y="9823"/>
                  <a:pt x="19224" y="9823"/>
                </a:cubicBezTo>
              </a:path>
              <a:path w="2953" h="993">
                <a:moveTo>
                  <a:pt x="19124" y="9847"/>
                </a:moveTo>
                <a:cubicBezTo>
                  <a:pt x="19194" y="9847"/>
                  <a:pt x="19253" y="9828"/>
                  <a:pt x="19323" y="9823"/>
                </a:cubicBezTo>
                <a:cubicBezTo>
                  <a:pt x="19471" y="9812"/>
                  <a:pt x="19622" y="9803"/>
                  <a:pt x="19769" y="9798"/>
                </a:cubicBezTo>
                <a:cubicBezTo>
                  <a:pt x="19850" y="9795"/>
                  <a:pt x="19911" y="9823"/>
                  <a:pt x="19993" y="9823"/>
                </a:cubicBezTo>
                <a:cubicBezTo>
                  <a:pt x="20038" y="9823"/>
                  <a:pt x="20052" y="9843"/>
                  <a:pt x="20092" y="9847"/>
                </a:cubicBezTo>
                <a:cubicBezTo>
                  <a:pt x="20125" y="9847"/>
                  <a:pt x="20141" y="9847"/>
                  <a:pt x="20166" y="9847"/>
                </a:cubicBezTo>
              </a:path>
              <a:path w="2953" h="993">
                <a:moveTo>
                  <a:pt x="20513" y="9426"/>
                </a:moveTo>
                <a:cubicBezTo>
                  <a:pt x="20521" y="9426"/>
                  <a:pt x="20530" y="9426"/>
                  <a:pt x="20538" y="9426"/>
                </a:cubicBezTo>
              </a:path>
              <a:path w="2953" h="993">
                <a:moveTo>
                  <a:pt x="20414" y="9798"/>
                </a:moveTo>
                <a:cubicBezTo>
                  <a:pt x="20422" y="9798"/>
                  <a:pt x="20431" y="9798"/>
                  <a:pt x="20439" y="9798"/>
                </a:cubicBezTo>
              </a:path>
              <a:path w="2953" h="993">
                <a:moveTo>
                  <a:pt x="20886" y="9872"/>
                </a:moveTo>
                <a:cubicBezTo>
                  <a:pt x="20968" y="9841"/>
                  <a:pt x="21006" y="9840"/>
                  <a:pt x="21084" y="9847"/>
                </a:cubicBezTo>
                <a:cubicBezTo>
                  <a:pt x="21234" y="9860"/>
                  <a:pt x="21386" y="9851"/>
                  <a:pt x="21530" y="9872"/>
                </a:cubicBezTo>
                <a:cubicBezTo>
                  <a:pt x="21688" y="9895"/>
                  <a:pt x="21848" y="9866"/>
                  <a:pt x="22002" y="9897"/>
                </a:cubicBezTo>
                <a:cubicBezTo>
                  <a:pt x="22024" y="9901"/>
                  <a:pt x="22053" y="9897"/>
                  <a:pt x="22076" y="9897"/>
                </a:cubicBezTo>
              </a:path>
              <a:path w="2953" h="993">
                <a:moveTo>
                  <a:pt x="19720" y="9426"/>
                </a:moveTo>
                <a:cubicBezTo>
                  <a:pt x="19753" y="9479"/>
                  <a:pt x="19848" y="9580"/>
                  <a:pt x="19869" y="9624"/>
                </a:cubicBezTo>
                <a:cubicBezTo>
                  <a:pt x="19916" y="9724"/>
                  <a:pt x="19808" y="9798"/>
                  <a:pt x="19720" y="9798"/>
                </a:cubicBezTo>
                <a:cubicBezTo>
                  <a:pt x="19609" y="9798"/>
                  <a:pt x="19614" y="9714"/>
                  <a:pt x="19571" y="9649"/>
                </a:cubicBezTo>
                <a:cubicBezTo>
                  <a:pt x="19563" y="9641"/>
                  <a:pt x="19554" y="9632"/>
                  <a:pt x="19546" y="9624"/>
                </a:cubicBezTo>
                <a:cubicBezTo>
                  <a:pt x="19632" y="9553"/>
                  <a:pt x="19733" y="9497"/>
                  <a:pt x="19819" y="9426"/>
                </a:cubicBezTo>
                <a:cubicBezTo>
                  <a:pt x="19867" y="9386"/>
                  <a:pt x="19952" y="9288"/>
                  <a:pt x="19968" y="9227"/>
                </a:cubicBezTo>
                <a:cubicBezTo>
                  <a:pt x="19991" y="9143"/>
                  <a:pt x="20006" y="9128"/>
                  <a:pt x="19943" y="9054"/>
                </a:cubicBezTo>
                <a:cubicBezTo>
                  <a:pt x="19887" y="8988"/>
                  <a:pt x="19806" y="8956"/>
                  <a:pt x="19720" y="8979"/>
                </a:cubicBezTo>
                <a:cubicBezTo>
                  <a:pt x="19680" y="8990"/>
                  <a:pt x="19595" y="9046"/>
                  <a:pt x="19571" y="9079"/>
                </a:cubicBezTo>
                <a:cubicBezTo>
                  <a:pt x="19518" y="9152"/>
                  <a:pt x="19547" y="9181"/>
                  <a:pt x="19596" y="9227"/>
                </a:cubicBezTo>
                <a:cubicBezTo>
                  <a:pt x="19640" y="9269"/>
                  <a:pt x="19700" y="9341"/>
                  <a:pt x="19720" y="9401"/>
                </a:cubicBezTo>
                <a:cubicBezTo>
                  <a:pt x="19720" y="9409"/>
                  <a:pt x="19720" y="9418"/>
                  <a:pt x="19720" y="9426"/>
                </a:cubicBezTo>
              </a:path>
              <a:path w="2953" h="993">
                <a:moveTo>
                  <a:pt x="21034" y="9178"/>
                </a:moveTo>
                <a:cubicBezTo>
                  <a:pt x="20971" y="9356"/>
                  <a:pt x="20921" y="9505"/>
                  <a:pt x="20935" y="9699"/>
                </a:cubicBezTo>
                <a:cubicBezTo>
                  <a:pt x="20946" y="9850"/>
                  <a:pt x="20964" y="9812"/>
                  <a:pt x="20985" y="9897"/>
                </a:cubicBezTo>
              </a:path>
              <a:path w="2953" h="993">
                <a:moveTo>
                  <a:pt x="21456" y="9203"/>
                </a:moveTo>
                <a:cubicBezTo>
                  <a:pt x="21335" y="9282"/>
                  <a:pt x="21293" y="9358"/>
                  <a:pt x="21258" y="9500"/>
                </a:cubicBezTo>
                <a:cubicBezTo>
                  <a:pt x="21215" y="9676"/>
                  <a:pt x="21265" y="9768"/>
                  <a:pt x="21382" y="9897"/>
                </a:cubicBezTo>
                <a:cubicBezTo>
                  <a:pt x="21478" y="10003"/>
                  <a:pt x="21620" y="9979"/>
                  <a:pt x="21729" y="9897"/>
                </a:cubicBezTo>
                <a:cubicBezTo>
                  <a:pt x="21800" y="9844"/>
                  <a:pt x="21963" y="9712"/>
                  <a:pt x="21903" y="9599"/>
                </a:cubicBezTo>
                <a:cubicBezTo>
                  <a:pt x="21861" y="9520"/>
                  <a:pt x="21717" y="9448"/>
                  <a:pt x="21630" y="9475"/>
                </a:cubicBezTo>
                <a:cubicBezTo>
                  <a:pt x="21584" y="9489"/>
                  <a:pt x="21470" y="9576"/>
                  <a:pt x="21456" y="9624"/>
                </a:cubicBezTo>
                <a:cubicBezTo>
                  <a:pt x="21425" y="9729"/>
                  <a:pt x="21438" y="9816"/>
                  <a:pt x="21456" y="9922"/>
                </a:cubicBezTo>
                <a:cubicBezTo>
                  <a:pt x="21456" y="9947"/>
                  <a:pt x="21456" y="9955"/>
                  <a:pt x="21481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24000" y="6599160"/>
            <a:ext cx="27000" cy="9720"/>
          </a:xfrm>
          <a:custGeom>
            <a:avLst/>
            <a:gdLst/>
            <a:ahLst/>
            <a:rect l="l" t="t" r="r" b="b"/>
            <a:pathLst>
              <a:path w="76" h="25">
                <a:moveTo>
                  <a:pt x="3473" y="18331"/>
                </a:moveTo>
                <a:cubicBezTo>
                  <a:pt x="3434" y="18331"/>
                  <a:pt x="3452" y="18355"/>
                  <a:pt x="3398" y="183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97760" y="4741920"/>
            <a:ext cx="2455560" cy="776160"/>
          </a:xfrm>
          <a:custGeom>
            <a:avLst/>
            <a:gdLst/>
            <a:ahLst/>
            <a:rect l="l" t="t" r="r" b="b"/>
            <a:pathLst>
              <a:path w="6823" h="2159">
                <a:moveTo>
                  <a:pt x="17587" y="15304"/>
                </a:moveTo>
                <a:cubicBezTo>
                  <a:pt x="17771" y="15304"/>
                  <a:pt x="17951" y="15309"/>
                  <a:pt x="18132" y="15280"/>
                </a:cubicBezTo>
                <a:cubicBezTo>
                  <a:pt x="18281" y="15256"/>
                  <a:pt x="18435" y="15240"/>
                  <a:pt x="18579" y="15205"/>
                </a:cubicBezTo>
                <a:cubicBezTo>
                  <a:pt x="18663" y="15184"/>
                  <a:pt x="18746" y="15174"/>
                  <a:pt x="18827" y="15156"/>
                </a:cubicBezTo>
                <a:cubicBezTo>
                  <a:pt x="18852" y="15156"/>
                  <a:pt x="18860" y="15156"/>
                  <a:pt x="18876" y="15156"/>
                </a:cubicBezTo>
              </a:path>
              <a:path w="6823" h="2159">
                <a:moveTo>
                  <a:pt x="19224" y="14660"/>
                </a:moveTo>
                <a:cubicBezTo>
                  <a:pt x="19232" y="14652"/>
                  <a:pt x="19240" y="14643"/>
                  <a:pt x="19248" y="14635"/>
                </a:cubicBezTo>
              </a:path>
              <a:path w="6823" h="2159">
                <a:moveTo>
                  <a:pt x="19224" y="15032"/>
                </a:moveTo>
                <a:cubicBezTo>
                  <a:pt x="19283" y="15047"/>
                  <a:pt x="19259" y="15078"/>
                  <a:pt x="19273" y="15007"/>
                </a:cubicBezTo>
              </a:path>
              <a:path w="6823" h="2159">
                <a:moveTo>
                  <a:pt x="19645" y="15304"/>
                </a:moveTo>
                <a:cubicBezTo>
                  <a:pt x="19822" y="15274"/>
                  <a:pt x="19936" y="15275"/>
                  <a:pt x="20117" y="15280"/>
                </a:cubicBezTo>
                <a:cubicBezTo>
                  <a:pt x="20499" y="15291"/>
                  <a:pt x="20878" y="15274"/>
                  <a:pt x="21258" y="15255"/>
                </a:cubicBezTo>
                <a:cubicBezTo>
                  <a:pt x="21357" y="15250"/>
                  <a:pt x="21450" y="15264"/>
                  <a:pt x="21506" y="15230"/>
                </a:cubicBezTo>
              </a:path>
              <a:path w="6823" h="2159">
                <a:moveTo>
                  <a:pt x="17810" y="14709"/>
                </a:moveTo>
                <a:lnTo>
                  <a:pt x="17835" y="14709"/>
                </a:lnTo>
                <a:lnTo>
                  <a:pt x="17859" y="14734"/>
                </a:lnTo>
                <a:lnTo>
                  <a:pt x="17884" y="14759"/>
                </a:lnTo>
                <a:lnTo>
                  <a:pt x="17909" y="14858"/>
                </a:lnTo>
                <a:lnTo>
                  <a:pt x="17884" y="14957"/>
                </a:lnTo>
                <a:lnTo>
                  <a:pt x="17909" y="15081"/>
                </a:lnTo>
                <a:lnTo>
                  <a:pt x="17909" y="15131"/>
                </a:lnTo>
                <a:lnTo>
                  <a:pt x="17909" y="15156"/>
                </a:lnTo>
                <a:lnTo>
                  <a:pt x="17909" y="15131"/>
                </a:lnTo>
              </a:path>
              <a:path w="6823" h="2159">
                <a:moveTo>
                  <a:pt x="18306" y="14362"/>
                </a:moveTo>
                <a:cubicBezTo>
                  <a:pt x="18370" y="14394"/>
                  <a:pt x="18375" y="14535"/>
                  <a:pt x="18380" y="14610"/>
                </a:cubicBezTo>
                <a:cubicBezTo>
                  <a:pt x="18390" y="14752"/>
                  <a:pt x="18398" y="14891"/>
                  <a:pt x="18405" y="15032"/>
                </a:cubicBezTo>
                <a:cubicBezTo>
                  <a:pt x="18407" y="15073"/>
                  <a:pt x="18405" y="15115"/>
                  <a:pt x="18405" y="15156"/>
                </a:cubicBezTo>
              </a:path>
              <a:path w="6823" h="2159">
                <a:moveTo>
                  <a:pt x="19918" y="14709"/>
                </a:moveTo>
                <a:cubicBezTo>
                  <a:pt x="19918" y="14861"/>
                  <a:pt x="19906" y="15006"/>
                  <a:pt x="19893" y="15156"/>
                </a:cubicBezTo>
                <a:cubicBezTo>
                  <a:pt x="19890" y="15197"/>
                  <a:pt x="19893" y="15271"/>
                  <a:pt x="19893" y="15230"/>
                </a:cubicBezTo>
              </a:path>
              <a:path w="6823" h="2159">
                <a:moveTo>
                  <a:pt x="20340" y="14585"/>
                </a:moveTo>
                <a:cubicBezTo>
                  <a:pt x="20437" y="14585"/>
                  <a:pt x="20655" y="14542"/>
                  <a:pt x="20712" y="14660"/>
                </a:cubicBezTo>
                <a:cubicBezTo>
                  <a:pt x="20784" y="14809"/>
                  <a:pt x="20648" y="14968"/>
                  <a:pt x="20538" y="15056"/>
                </a:cubicBezTo>
                <a:cubicBezTo>
                  <a:pt x="20457" y="15121"/>
                  <a:pt x="20245" y="15226"/>
                  <a:pt x="20166" y="15081"/>
                </a:cubicBezTo>
                <a:cubicBezTo>
                  <a:pt x="20166" y="15015"/>
                  <a:pt x="20166" y="14998"/>
                  <a:pt x="20166" y="14957"/>
                </a:cubicBezTo>
                <a:cubicBezTo>
                  <a:pt x="20312" y="14957"/>
                  <a:pt x="20380" y="14998"/>
                  <a:pt x="20513" y="15056"/>
                </a:cubicBezTo>
                <a:cubicBezTo>
                  <a:pt x="20606" y="15097"/>
                  <a:pt x="20713" y="15161"/>
                  <a:pt x="20811" y="15180"/>
                </a:cubicBezTo>
              </a:path>
              <a:path w="6823" h="2159">
                <a:moveTo>
                  <a:pt x="17214" y="13320"/>
                </a:moveTo>
                <a:cubicBezTo>
                  <a:pt x="17268" y="13306"/>
                  <a:pt x="17480" y="13256"/>
                  <a:pt x="17562" y="13246"/>
                </a:cubicBezTo>
                <a:cubicBezTo>
                  <a:pt x="17902" y="13205"/>
                  <a:pt x="18239" y="13241"/>
                  <a:pt x="18579" y="13221"/>
                </a:cubicBezTo>
                <a:cubicBezTo>
                  <a:pt x="18844" y="13205"/>
                  <a:pt x="19106" y="13176"/>
                  <a:pt x="19372" y="13171"/>
                </a:cubicBezTo>
                <a:cubicBezTo>
                  <a:pt x="19557" y="13168"/>
                  <a:pt x="19736" y="13185"/>
                  <a:pt x="19918" y="13196"/>
                </a:cubicBezTo>
                <a:cubicBezTo>
                  <a:pt x="20084" y="13206"/>
                  <a:pt x="20250" y="13194"/>
                  <a:pt x="20414" y="13221"/>
                </a:cubicBezTo>
                <a:cubicBezTo>
                  <a:pt x="20472" y="13231"/>
                  <a:pt x="20480" y="13238"/>
                  <a:pt x="20538" y="13246"/>
                </a:cubicBezTo>
              </a:path>
              <a:path w="6823" h="2159">
                <a:moveTo>
                  <a:pt x="23068" y="13692"/>
                </a:moveTo>
                <a:cubicBezTo>
                  <a:pt x="23091" y="13806"/>
                  <a:pt x="23071" y="13915"/>
                  <a:pt x="23068" y="14039"/>
                </a:cubicBezTo>
                <a:cubicBezTo>
                  <a:pt x="23067" y="14097"/>
                  <a:pt x="23068" y="14221"/>
                  <a:pt x="23068" y="14163"/>
                </a:cubicBezTo>
              </a:path>
              <a:path w="6823" h="2159">
                <a:moveTo>
                  <a:pt x="23465" y="13767"/>
                </a:moveTo>
                <a:cubicBezTo>
                  <a:pt x="23513" y="13717"/>
                  <a:pt x="23533" y="13949"/>
                  <a:pt x="23540" y="13990"/>
                </a:cubicBezTo>
                <a:cubicBezTo>
                  <a:pt x="23556" y="14077"/>
                  <a:pt x="23555" y="14242"/>
                  <a:pt x="23589" y="14288"/>
                </a:cubicBezTo>
              </a:path>
              <a:path w="6823" h="2159">
                <a:moveTo>
                  <a:pt x="22721" y="14511"/>
                </a:moveTo>
                <a:lnTo>
                  <a:pt x="22746" y="14511"/>
                </a:lnTo>
                <a:lnTo>
                  <a:pt x="22820" y="14536"/>
                </a:lnTo>
                <a:lnTo>
                  <a:pt x="22994" y="14511"/>
                </a:lnTo>
                <a:lnTo>
                  <a:pt x="23242" y="14486"/>
                </a:lnTo>
                <a:lnTo>
                  <a:pt x="23515" y="14461"/>
                </a:lnTo>
                <a:lnTo>
                  <a:pt x="23713" y="14461"/>
                </a:lnTo>
                <a:lnTo>
                  <a:pt x="23788" y="14461"/>
                </a:lnTo>
                <a:lnTo>
                  <a:pt x="23788" y="14461"/>
                </a:lnTo>
                <a:lnTo>
                  <a:pt x="23763" y="14461"/>
                </a:lnTo>
              </a:path>
              <a:path w="6823" h="2159">
                <a:moveTo>
                  <a:pt x="22895" y="14833"/>
                </a:moveTo>
                <a:cubicBezTo>
                  <a:pt x="22887" y="14993"/>
                  <a:pt x="22867" y="15147"/>
                  <a:pt x="22845" y="15304"/>
                </a:cubicBezTo>
                <a:cubicBezTo>
                  <a:pt x="22845" y="15312"/>
                  <a:pt x="22845" y="15321"/>
                  <a:pt x="22845" y="15329"/>
                </a:cubicBezTo>
              </a:path>
              <a:path w="6823" h="2159">
                <a:moveTo>
                  <a:pt x="23416" y="14660"/>
                </a:moveTo>
                <a:cubicBezTo>
                  <a:pt x="23532" y="14660"/>
                  <a:pt x="23713" y="14641"/>
                  <a:pt x="23812" y="14709"/>
                </a:cubicBezTo>
                <a:cubicBezTo>
                  <a:pt x="23978" y="14822"/>
                  <a:pt x="23814" y="15005"/>
                  <a:pt x="23713" y="15081"/>
                </a:cubicBezTo>
                <a:cubicBezTo>
                  <a:pt x="23568" y="15190"/>
                  <a:pt x="23365" y="15276"/>
                  <a:pt x="23242" y="15106"/>
                </a:cubicBezTo>
                <a:cubicBezTo>
                  <a:pt x="23234" y="15089"/>
                  <a:pt x="23225" y="15073"/>
                  <a:pt x="23217" y="15056"/>
                </a:cubicBezTo>
                <a:cubicBezTo>
                  <a:pt x="23313" y="14982"/>
                  <a:pt x="23417" y="14946"/>
                  <a:pt x="23540" y="15007"/>
                </a:cubicBezTo>
                <a:cubicBezTo>
                  <a:pt x="23687" y="15080"/>
                  <a:pt x="23815" y="15202"/>
                  <a:pt x="23961" y="15280"/>
                </a:cubicBezTo>
                <a:cubicBezTo>
                  <a:pt x="24005" y="15301"/>
                  <a:pt x="24017" y="15304"/>
                  <a:pt x="24036" y="153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38360" y="4518000"/>
            <a:ext cx="17640" cy="36360"/>
          </a:xfrm>
          <a:custGeom>
            <a:avLst/>
            <a:gdLst/>
            <a:ahLst/>
            <a:rect l="l" t="t" r="r" b="b"/>
            <a:pathLst>
              <a:path w="50" h="100">
                <a:moveTo>
                  <a:pt x="9599" y="12650"/>
                </a:moveTo>
                <a:lnTo>
                  <a:pt x="9599" y="12650"/>
                </a:lnTo>
              </a:path>
              <a:path w="50" h="100">
                <a:moveTo>
                  <a:pt x="9599" y="12626"/>
                </a:moveTo>
                <a:cubicBezTo>
                  <a:pt x="9583" y="12601"/>
                  <a:pt x="9566" y="12576"/>
                  <a:pt x="9550" y="125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Equivalent Ratios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ever you do to the numerator you must do to the denominato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 1.) 4: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 2.) 3 to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 3.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828800" y="5029200"/>
          <a:ext cx="30492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029200"/>
                    <a:ext cx="3049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241280" y="6438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448" y="17884"/>
                </a:moveTo>
                <a:lnTo>
                  <a:pt x="3448" y="1788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24000" y="611676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3398" y="16991"/>
                </a:moveTo>
                <a:cubicBezTo>
                  <a:pt x="3398" y="16999"/>
                  <a:pt x="3398" y="17008"/>
                  <a:pt x="3398" y="170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65200" y="6330960"/>
            <a:ext cx="27000" cy="71280"/>
          </a:xfrm>
          <a:custGeom>
            <a:avLst/>
            <a:gdLst/>
            <a:ahLst/>
            <a:rect l="l" t="t" r="r" b="b"/>
            <a:pathLst>
              <a:path w="75" h="199">
                <a:moveTo>
                  <a:pt x="4142" y="17587"/>
                </a:moveTo>
                <a:cubicBezTo>
                  <a:pt x="4117" y="17653"/>
                  <a:pt x="4093" y="17719"/>
                  <a:pt x="4068" y="177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85960" y="6089760"/>
            <a:ext cx="81000" cy="46080"/>
          </a:xfrm>
          <a:custGeom>
            <a:avLst/>
            <a:gdLst/>
            <a:ahLst/>
            <a:rect l="l" t="t" r="r" b="b"/>
            <a:pathLst>
              <a:path w="224" h="125">
                <a:moveTo>
                  <a:pt x="5184" y="16917"/>
                </a:moveTo>
                <a:cubicBezTo>
                  <a:pt x="5062" y="16936"/>
                  <a:pt x="5043" y="16951"/>
                  <a:pt x="4961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84320" y="1258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012" y="3497"/>
                </a:moveTo>
                <a:lnTo>
                  <a:pt x="8012" y="3497"/>
                </a:lnTo>
                <a:lnTo>
                  <a:pt x="8012" y="349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85960" y="3456000"/>
            <a:ext cx="527040" cy="196920"/>
          </a:xfrm>
          <a:custGeom>
            <a:avLst/>
            <a:gdLst/>
            <a:ahLst/>
            <a:rect l="l" t="t" r="r" b="b"/>
            <a:pathLst>
              <a:path w="1464" h="547">
                <a:moveTo>
                  <a:pt x="4961" y="9748"/>
                </a:moveTo>
                <a:cubicBezTo>
                  <a:pt x="4967" y="9816"/>
                  <a:pt x="4965" y="9845"/>
                  <a:pt x="4986" y="9922"/>
                </a:cubicBezTo>
                <a:cubicBezTo>
                  <a:pt x="4998" y="9966"/>
                  <a:pt x="5028" y="10130"/>
                  <a:pt x="5085" y="10145"/>
                </a:cubicBezTo>
                <a:cubicBezTo>
                  <a:pt x="5221" y="10181"/>
                  <a:pt x="5258" y="9963"/>
                  <a:pt x="5283" y="9872"/>
                </a:cubicBezTo>
                <a:cubicBezTo>
                  <a:pt x="5302" y="9798"/>
                  <a:pt x="5310" y="9791"/>
                  <a:pt x="5308" y="9748"/>
                </a:cubicBezTo>
                <a:cubicBezTo>
                  <a:pt x="5372" y="9844"/>
                  <a:pt x="5416" y="9963"/>
                  <a:pt x="5531" y="9996"/>
                </a:cubicBezTo>
                <a:cubicBezTo>
                  <a:pt x="5616" y="10020"/>
                  <a:pt x="5702" y="9811"/>
                  <a:pt x="5730" y="9748"/>
                </a:cubicBezTo>
                <a:cubicBezTo>
                  <a:pt x="5730" y="9740"/>
                  <a:pt x="5730" y="9731"/>
                  <a:pt x="5730" y="9723"/>
                </a:cubicBezTo>
                <a:cubicBezTo>
                  <a:pt x="5833" y="9767"/>
                  <a:pt x="5964" y="9849"/>
                  <a:pt x="6077" y="9872"/>
                </a:cubicBezTo>
                <a:cubicBezTo>
                  <a:pt x="6210" y="9899"/>
                  <a:pt x="6284" y="9848"/>
                  <a:pt x="6350" y="9748"/>
                </a:cubicBezTo>
                <a:cubicBezTo>
                  <a:pt x="6398" y="9677"/>
                  <a:pt x="6414" y="9656"/>
                  <a:pt x="6424" y="95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7280" y="5018040"/>
            <a:ext cx="500400" cy="920880"/>
          </a:xfrm>
          <a:custGeom>
            <a:avLst/>
            <a:gdLst/>
            <a:ahLst/>
            <a:rect l="l" t="t" r="r" b="b"/>
            <a:pathLst>
              <a:path w="1391" h="2556">
                <a:moveTo>
                  <a:pt x="6945" y="14759"/>
                </a:moveTo>
                <a:cubicBezTo>
                  <a:pt x="6929" y="14767"/>
                  <a:pt x="6912" y="14776"/>
                  <a:pt x="6896" y="14784"/>
                </a:cubicBezTo>
              </a:path>
              <a:path w="1391" h="2556">
                <a:moveTo>
                  <a:pt x="6548" y="16173"/>
                </a:moveTo>
                <a:cubicBezTo>
                  <a:pt x="6701" y="16216"/>
                  <a:pt x="6883" y="16269"/>
                  <a:pt x="6995" y="16396"/>
                </a:cubicBezTo>
                <a:cubicBezTo>
                  <a:pt x="6987" y="16396"/>
                  <a:pt x="6978" y="16396"/>
                  <a:pt x="6970" y="16396"/>
                </a:cubicBezTo>
              </a:path>
              <a:path w="1391" h="2556">
                <a:moveTo>
                  <a:pt x="7069" y="15925"/>
                </a:moveTo>
                <a:cubicBezTo>
                  <a:pt x="7100" y="16017"/>
                  <a:pt x="7075" y="16055"/>
                  <a:pt x="7069" y="16148"/>
                </a:cubicBezTo>
                <a:cubicBezTo>
                  <a:pt x="7065" y="16213"/>
                  <a:pt x="7022" y="16282"/>
                  <a:pt x="6995" y="16346"/>
                </a:cubicBezTo>
                <a:cubicBezTo>
                  <a:pt x="6968" y="16408"/>
                  <a:pt x="6917" y="16548"/>
                  <a:pt x="6896" y="16446"/>
                </a:cubicBezTo>
              </a:path>
              <a:path w="1391" h="2556">
                <a:moveTo>
                  <a:pt x="7888" y="15825"/>
                </a:moveTo>
                <a:cubicBezTo>
                  <a:pt x="7797" y="15774"/>
                  <a:pt x="7672" y="15751"/>
                  <a:pt x="7590" y="15850"/>
                </a:cubicBezTo>
                <a:cubicBezTo>
                  <a:pt x="7571" y="15908"/>
                  <a:pt x="7562" y="15914"/>
                  <a:pt x="7565" y="15949"/>
                </a:cubicBezTo>
                <a:cubicBezTo>
                  <a:pt x="7711" y="15960"/>
                  <a:pt x="7770" y="15927"/>
                  <a:pt x="7888" y="15825"/>
                </a:cubicBezTo>
                <a:cubicBezTo>
                  <a:pt x="7906" y="15933"/>
                  <a:pt x="7935" y="16008"/>
                  <a:pt x="7938" y="16123"/>
                </a:cubicBezTo>
                <a:cubicBezTo>
                  <a:pt x="7940" y="16198"/>
                  <a:pt x="7938" y="16322"/>
                  <a:pt x="7938" y="16247"/>
                </a:cubicBezTo>
              </a:path>
              <a:path w="1391" h="2556">
                <a:moveTo>
                  <a:pt x="6598" y="14312"/>
                </a:moveTo>
                <a:cubicBezTo>
                  <a:pt x="6662" y="14364"/>
                  <a:pt x="6727" y="14413"/>
                  <a:pt x="6796" y="14461"/>
                </a:cubicBezTo>
                <a:cubicBezTo>
                  <a:pt x="6867" y="14510"/>
                  <a:pt x="6915" y="14543"/>
                  <a:pt x="6995" y="14560"/>
                </a:cubicBezTo>
              </a:path>
              <a:path w="1391" h="2556">
                <a:moveTo>
                  <a:pt x="6921" y="14362"/>
                </a:moveTo>
                <a:cubicBezTo>
                  <a:pt x="6882" y="14478"/>
                  <a:pt x="6862" y="14512"/>
                  <a:pt x="6772" y="14585"/>
                </a:cubicBezTo>
              </a:path>
              <a:path w="1391" h="2556">
                <a:moveTo>
                  <a:pt x="7665" y="13990"/>
                </a:moveTo>
                <a:cubicBezTo>
                  <a:pt x="7630" y="13921"/>
                  <a:pt x="7520" y="13929"/>
                  <a:pt x="7441" y="13940"/>
                </a:cubicBezTo>
                <a:cubicBezTo>
                  <a:pt x="7261" y="13966"/>
                  <a:pt x="7242" y="14086"/>
                  <a:pt x="7317" y="14213"/>
                </a:cubicBezTo>
                <a:cubicBezTo>
                  <a:pt x="7492" y="14163"/>
                  <a:pt x="7571" y="14130"/>
                  <a:pt x="7689" y="13990"/>
                </a:cubicBezTo>
                <a:cubicBezTo>
                  <a:pt x="7689" y="14078"/>
                  <a:pt x="7685" y="14150"/>
                  <a:pt x="7689" y="14238"/>
                </a:cubicBezTo>
                <a:cubicBezTo>
                  <a:pt x="7698" y="14436"/>
                  <a:pt x="7698" y="14640"/>
                  <a:pt x="7665" y="148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57720" y="4956120"/>
            <a:ext cx="500040" cy="295200"/>
          </a:xfrm>
          <a:custGeom>
            <a:avLst/>
            <a:gdLst/>
            <a:ahLst/>
            <a:rect l="l" t="t" r="r" b="b"/>
            <a:pathLst>
              <a:path w="1390" h="819">
                <a:moveTo>
                  <a:pt x="9500" y="13767"/>
                </a:moveTo>
                <a:cubicBezTo>
                  <a:pt x="9487" y="13818"/>
                  <a:pt x="9477" y="13915"/>
                  <a:pt x="9451" y="13965"/>
                </a:cubicBezTo>
                <a:cubicBezTo>
                  <a:pt x="9403" y="14055"/>
                  <a:pt x="9364" y="14117"/>
                  <a:pt x="9327" y="14213"/>
                </a:cubicBezTo>
                <a:cubicBezTo>
                  <a:pt x="9444" y="14213"/>
                  <a:pt x="9654" y="14257"/>
                  <a:pt x="9748" y="14163"/>
                </a:cubicBezTo>
                <a:cubicBezTo>
                  <a:pt x="9756" y="14130"/>
                  <a:pt x="9765" y="14097"/>
                  <a:pt x="9773" y="14064"/>
                </a:cubicBezTo>
              </a:path>
              <a:path w="1390" h="819">
                <a:moveTo>
                  <a:pt x="9872" y="13891"/>
                </a:moveTo>
                <a:cubicBezTo>
                  <a:pt x="9966" y="14053"/>
                  <a:pt x="9868" y="14164"/>
                  <a:pt x="9847" y="14337"/>
                </a:cubicBezTo>
                <a:cubicBezTo>
                  <a:pt x="9847" y="14461"/>
                  <a:pt x="9847" y="14486"/>
                  <a:pt x="9847" y="14560"/>
                </a:cubicBezTo>
              </a:path>
              <a:path w="1390" h="819">
                <a:moveTo>
                  <a:pt x="10170" y="13965"/>
                </a:moveTo>
                <a:cubicBezTo>
                  <a:pt x="10176" y="14091"/>
                  <a:pt x="10166" y="14162"/>
                  <a:pt x="10145" y="14288"/>
                </a:cubicBezTo>
                <a:cubicBezTo>
                  <a:pt x="10288" y="14269"/>
                  <a:pt x="10473" y="14165"/>
                  <a:pt x="10616" y="14238"/>
                </a:cubicBezTo>
                <a:cubicBezTo>
                  <a:pt x="10727" y="14295"/>
                  <a:pt x="10750" y="14471"/>
                  <a:pt x="10666" y="14560"/>
                </a:cubicBezTo>
                <a:cubicBezTo>
                  <a:pt x="10550" y="14683"/>
                  <a:pt x="10320" y="14450"/>
                  <a:pt x="10244" y="14387"/>
                </a:cubicBezTo>
              </a:path>
              <a:path w="1390" h="819">
                <a:moveTo>
                  <a:pt x="10368" y="13940"/>
                </a:moveTo>
                <a:cubicBezTo>
                  <a:pt x="10484" y="13917"/>
                  <a:pt x="10601" y="13885"/>
                  <a:pt x="10716" y="138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89240" y="3894120"/>
            <a:ext cx="1598760" cy="909720"/>
          </a:xfrm>
          <a:custGeom>
            <a:avLst/>
            <a:gdLst/>
            <a:ahLst/>
            <a:rect l="l" t="t" r="r" b="b"/>
            <a:pathLst>
              <a:path w="4441" h="2531">
                <a:moveTo>
                  <a:pt x="11733" y="11460"/>
                </a:moveTo>
                <a:cubicBezTo>
                  <a:pt x="11822" y="11331"/>
                  <a:pt x="11892" y="11228"/>
                  <a:pt x="12055" y="11187"/>
                </a:cubicBezTo>
                <a:cubicBezTo>
                  <a:pt x="12127" y="11169"/>
                  <a:pt x="12195" y="11273"/>
                  <a:pt x="12204" y="11336"/>
                </a:cubicBezTo>
                <a:cubicBezTo>
                  <a:pt x="12230" y="11518"/>
                  <a:pt x="12073" y="11607"/>
                  <a:pt x="11956" y="11708"/>
                </a:cubicBezTo>
                <a:cubicBezTo>
                  <a:pt x="11939" y="11724"/>
                  <a:pt x="11923" y="11741"/>
                  <a:pt x="11906" y="11757"/>
                </a:cubicBezTo>
                <a:cubicBezTo>
                  <a:pt x="11994" y="11745"/>
                  <a:pt x="12074" y="11694"/>
                  <a:pt x="12154" y="11733"/>
                </a:cubicBezTo>
                <a:cubicBezTo>
                  <a:pt x="12208" y="11759"/>
                  <a:pt x="12243" y="11854"/>
                  <a:pt x="12254" y="11906"/>
                </a:cubicBezTo>
                <a:cubicBezTo>
                  <a:pt x="12281" y="12032"/>
                  <a:pt x="12120" y="12104"/>
                  <a:pt x="12030" y="12129"/>
                </a:cubicBezTo>
                <a:cubicBezTo>
                  <a:pt x="11897" y="12166"/>
                  <a:pt x="11824" y="12138"/>
                  <a:pt x="11708" y="12080"/>
                </a:cubicBezTo>
                <a:cubicBezTo>
                  <a:pt x="11642" y="12047"/>
                  <a:pt x="11656" y="11991"/>
                  <a:pt x="11609" y="11931"/>
                </a:cubicBezTo>
              </a:path>
              <a:path w="4441" h="2531">
                <a:moveTo>
                  <a:pt x="11385" y="12328"/>
                </a:moveTo>
                <a:cubicBezTo>
                  <a:pt x="11400" y="12370"/>
                  <a:pt x="11470" y="12356"/>
                  <a:pt x="11584" y="12328"/>
                </a:cubicBezTo>
                <a:cubicBezTo>
                  <a:pt x="11792" y="12276"/>
                  <a:pt x="12014" y="12223"/>
                  <a:pt x="12229" y="12204"/>
                </a:cubicBezTo>
                <a:cubicBezTo>
                  <a:pt x="12390" y="12190"/>
                  <a:pt x="12540" y="12153"/>
                  <a:pt x="12700" y="12129"/>
                </a:cubicBezTo>
                <a:cubicBezTo>
                  <a:pt x="12741" y="12129"/>
                  <a:pt x="12749" y="12129"/>
                  <a:pt x="12774" y="12129"/>
                </a:cubicBezTo>
              </a:path>
              <a:path w="4441" h="2531">
                <a:moveTo>
                  <a:pt x="11757" y="12452"/>
                </a:moveTo>
                <a:cubicBezTo>
                  <a:pt x="11706" y="12523"/>
                  <a:pt x="11692" y="12617"/>
                  <a:pt x="11658" y="12700"/>
                </a:cubicBezTo>
                <a:cubicBezTo>
                  <a:pt x="11601" y="12838"/>
                  <a:pt x="11613" y="12907"/>
                  <a:pt x="11633" y="13047"/>
                </a:cubicBezTo>
                <a:cubicBezTo>
                  <a:pt x="11645" y="13128"/>
                  <a:pt x="11643" y="13102"/>
                  <a:pt x="11708" y="13047"/>
                </a:cubicBezTo>
              </a:path>
              <a:path w="4441" h="2531">
                <a:moveTo>
                  <a:pt x="11931" y="12502"/>
                </a:moveTo>
                <a:cubicBezTo>
                  <a:pt x="11883" y="12610"/>
                  <a:pt x="11787" y="12747"/>
                  <a:pt x="11832" y="12874"/>
                </a:cubicBezTo>
                <a:cubicBezTo>
                  <a:pt x="11873" y="12990"/>
                  <a:pt x="12010" y="13099"/>
                  <a:pt x="12129" y="13122"/>
                </a:cubicBezTo>
                <a:cubicBezTo>
                  <a:pt x="12286" y="13153"/>
                  <a:pt x="12449" y="13089"/>
                  <a:pt x="12551" y="12973"/>
                </a:cubicBezTo>
                <a:cubicBezTo>
                  <a:pt x="12638" y="12874"/>
                  <a:pt x="12679" y="12682"/>
                  <a:pt x="12601" y="12576"/>
                </a:cubicBezTo>
                <a:cubicBezTo>
                  <a:pt x="12505" y="12446"/>
                  <a:pt x="12328" y="12376"/>
                  <a:pt x="12179" y="12402"/>
                </a:cubicBezTo>
                <a:cubicBezTo>
                  <a:pt x="12075" y="12420"/>
                  <a:pt x="12013" y="12472"/>
                  <a:pt x="11956" y="12551"/>
                </a:cubicBezTo>
              </a:path>
              <a:path w="4441" h="2531">
                <a:moveTo>
                  <a:pt x="13097" y="11981"/>
                </a:moveTo>
                <a:cubicBezTo>
                  <a:pt x="13191" y="11981"/>
                  <a:pt x="13291" y="11967"/>
                  <a:pt x="13370" y="12005"/>
                </a:cubicBezTo>
              </a:path>
              <a:path w="4441" h="2531">
                <a:moveTo>
                  <a:pt x="13345" y="12254"/>
                </a:moveTo>
                <a:cubicBezTo>
                  <a:pt x="13448" y="12254"/>
                  <a:pt x="13419" y="12268"/>
                  <a:pt x="13494" y="12204"/>
                </a:cubicBezTo>
              </a:path>
              <a:path w="4441" h="2531">
                <a:moveTo>
                  <a:pt x="14610" y="11162"/>
                </a:moveTo>
                <a:cubicBezTo>
                  <a:pt x="14566" y="11140"/>
                  <a:pt x="14543" y="11166"/>
                  <a:pt x="14486" y="11261"/>
                </a:cubicBezTo>
                <a:cubicBezTo>
                  <a:pt x="14395" y="11412"/>
                  <a:pt x="14319" y="11551"/>
                  <a:pt x="14337" y="11733"/>
                </a:cubicBezTo>
                <a:cubicBezTo>
                  <a:pt x="14348" y="11843"/>
                  <a:pt x="14438" y="12046"/>
                  <a:pt x="14511" y="12129"/>
                </a:cubicBezTo>
                <a:cubicBezTo>
                  <a:pt x="14591" y="12220"/>
                  <a:pt x="14836" y="12195"/>
                  <a:pt x="14932" y="12154"/>
                </a:cubicBezTo>
                <a:cubicBezTo>
                  <a:pt x="15122" y="12071"/>
                  <a:pt x="15190" y="11937"/>
                  <a:pt x="15255" y="11757"/>
                </a:cubicBezTo>
                <a:cubicBezTo>
                  <a:pt x="15200" y="11702"/>
                  <a:pt x="15136" y="11651"/>
                  <a:pt x="15032" y="11683"/>
                </a:cubicBezTo>
                <a:cubicBezTo>
                  <a:pt x="14889" y="11726"/>
                  <a:pt x="14862" y="11865"/>
                  <a:pt x="14833" y="11981"/>
                </a:cubicBezTo>
                <a:cubicBezTo>
                  <a:pt x="14814" y="12058"/>
                  <a:pt x="14799" y="12130"/>
                  <a:pt x="14833" y="12204"/>
                </a:cubicBezTo>
                <a:cubicBezTo>
                  <a:pt x="14841" y="12212"/>
                  <a:pt x="14850" y="12221"/>
                  <a:pt x="14858" y="12229"/>
                </a:cubicBezTo>
              </a:path>
              <a:path w="4441" h="2531">
                <a:moveTo>
                  <a:pt x="14064" y="12204"/>
                </a:moveTo>
                <a:cubicBezTo>
                  <a:pt x="13997" y="12230"/>
                  <a:pt x="13954" y="12242"/>
                  <a:pt x="13891" y="12278"/>
                </a:cubicBezTo>
                <a:cubicBezTo>
                  <a:pt x="13996" y="12335"/>
                  <a:pt x="14135" y="12361"/>
                  <a:pt x="14288" y="12353"/>
                </a:cubicBezTo>
                <a:cubicBezTo>
                  <a:pt x="14559" y="12338"/>
                  <a:pt x="14837" y="12331"/>
                  <a:pt x="15106" y="12303"/>
                </a:cubicBezTo>
                <a:cubicBezTo>
                  <a:pt x="15272" y="12286"/>
                  <a:pt x="15391" y="12283"/>
                  <a:pt x="15553" y="12303"/>
                </a:cubicBezTo>
                <a:cubicBezTo>
                  <a:pt x="15577" y="12303"/>
                  <a:pt x="15586" y="12303"/>
                  <a:pt x="15602" y="12303"/>
                </a:cubicBezTo>
              </a:path>
              <a:path w="4441" h="2531">
                <a:moveTo>
                  <a:pt x="14089" y="12626"/>
                </a:moveTo>
                <a:cubicBezTo>
                  <a:pt x="14064" y="12626"/>
                  <a:pt x="14056" y="12626"/>
                  <a:pt x="14039" y="12626"/>
                </a:cubicBezTo>
              </a:path>
              <a:path w="4441" h="2531">
                <a:moveTo>
                  <a:pt x="14039" y="12626"/>
                </a:moveTo>
                <a:lnTo>
                  <a:pt x="14039" y="12626"/>
                </a:lnTo>
              </a:path>
              <a:path w="4441" h="2531">
                <a:moveTo>
                  <a:pt x="14064" y="12626"/>
                </a:moveTo>
                <a:cubicBezTo>
                  <a:pt x="14092" y="12626"/>
                  <a:pt x="14103" y="12624"/>
                  <a:pt x="14114" y="12601"/>
                </a:cubicBezTo>
              </a:path>
              <a:path w="4441" h="2531">
                <a:moveTo>
                  <a:pt x="14089" y="12601"/>
                </a:moveTo>
                <a:lnTo>
                  <a:pt x="14089" y="12601"/>
                </a:lnTo>
              </a:path>
              <a:path w="4441" h="2531">
                <a:moveTo>
                  <a:pt x="12774" y="11088"/>
                </a:moveTo>
                <a:cubicBezTo>
                  <a:pt x="12824" y="11209"/>
                  <a:pt x="12970" y="11344"/>
                  <a:pt x="13072" y="11435"/>
                </a:cubicBezTo>
                <a:cubicBezTo>
                  <a:pt x="13135" y="11478"/>
                  <a:pt x="13160" y="11507"/>
                  <a:pt x="13146" y="11435"/>
                </a:cubicBezTo>
              </a:path>
              <a:path w="4441" h="2531">
                <a:moveTo>
                  <a:pt x="13097" y="11212"/>
                </a:moveTo>
                <a:cubicBezTo>
                  <a:pt x="13034" y="11305"/>
                  <a:pt x="12975" y="11395"/>
                  <a:pt x="12898" y="11485"/>
                </a:cubicBezTo>
                <a:cubicBezTo>
                  <a:pt x="12890" y="11493"/>
                  <a:pt x="12882" y="11501"/>
                  <a:pt x="12874" y="11509"/>
                </a:cubicBezTo>
              </a:path>
              <a:path w="4441" h="2531">
                <a:moveTo>
                  <a:pt x="13295" y="10840"/>
                </a:moveTo>
                <a:cubicBezTo>
                  <a:pt x="13412" y="10829"/>
                  <a:pt x="13625" y="10773"/>
                  <a:pt x="13643" y="10939"/>
                </a:cubicBezTo>
                <a:cubicBezTo>
                  <a:pt x="13658" y="11078"/>
                  <a:pt x="13508" y="11368"/>
                  <a:pt x="13395" y="11460"/>
                </a:cubicBezTo>
                <a:cubicBezTo>
                  <a:pt x="13350" y="11460"/>
                  <a:pt x="13337" y="11463"/>
                  <a:pt x="13320" y="11435"/>
                </a:cubicBezTo>
                <a:cubicBezTo>
                  <a:pt x="13398" y="11357"/>
                  <a:pt x="13437" y="11347"/>
                  <a:pt x="13543" y="11410"/>
                </a:cubicBezTo>
                <a:cubicBezTo>
                  <a:pt x="13597" y="11464"/>
                  <a:pt x="13619" y="11484"/>
                  <a:pt x="13667" y="11509"/>
                </a:cubicBezTo>
              </a:path>
              <a:path w="4441" h="2531">
                <a:moveTo>
                  <a:pt x="14064" y="12650"/>
                </a:moveTo>
                <a:cubicBezTo>
                  <a:pt x="14050" y="12626"/>
                  <a:pt x="13975" y="12640"/>
                  <a:pt x="14039" y="12576"/>
                </a:cubicBezTo>
                <a:cubicBezTo>
                  <a:pt x="14148" y="12467"/>
                  <a:pt x="14320" y="12456"/>
                  <a:pt x="14461" y="12452"/>
                </a:cubicBezTo>
                <a:cubicBezTo>
                  <a:pt x="14602" y="12448"/>
                  <a:pt x="14666" y="12506"/>
                  <a:pt x="14684" y="12650"/>
                </a:cubicBezTo>
                <a:cubicBezTo>
                  <a:pt x="14707" y="12841"/>
                  <a:pt x="14643" y="12953"/>
                  <a:pt x="14486" y="13047"/>
                </a:cubicBezTo>
                <a:cubicBezTo>
                  <a:pt x="14288" y="13165"/>
                  <a:pt x="14016" y="13249"/>
                  <a:pt x="13816" y="13097"/>
                </a:cubicBezTo>
                <a:cubicBezTo>
                  <a:pt x="13791" y="13064"/>
                  <a:pt x="13767" y="13031"/>
                  <a:pt x="13742" y="12998"/>
                </a:cubicBezTo>
                <a:cubicBezTo>
                  <a:pt x="13803" y="12853"/>
                  <a:pt x="14002" y="12941"/>
                  <a:pt x="14139" y="12973"/>
                </a:cubicBezTo>
                <a:cubicBezTo>
                  <a:pt x="14253" y="12999"/>
                  <a:pt x="14513" y="13192"/>
                  <a:pt x="14610" y="13171"/>
                </a:cubicBezTo>
                <a:cubicBezTo>
                  <a:pt x="14643" y="13155"/>
                  <a:pt x="14676" y="13138"/>
                  <a:pt x="14709" y="13122"/>
                </a:cubicBezTo>
              </a:path>
              <a:path w="4441" h="2531">
                <a:moveTo>
                  <a:pt x="15404" y="12427"/>
                </a:moveTo>
                <a:cubicBezTo>
                  <a:pt x="15234" y="12484"/>
                  <a:pt x="15142" y="12566"/>
                  <a:pt x="15081" y="12750"/>
                </a:cubicBezTo>
                <a:cubicBezTo>
                  <a:pt x="15030" y="12904"/>
                  <a:pt x="15071" y="13183"/>
                  <a:pt x="15205" y="13295"/>
                </a:cubicBezTo>
                <a:cubicBezTo>
                  <a:pt x="15331" y="13400"/>
                  <a:pt x="15559" y="13341"/>
                  <a:pt x="15652" y="13221"/>
                </a:cubicBezTo>
                <a:cubicBezTo>
                  <a:pt x="15750" y="13096"/>
                  <a:pt x="15843" y="12831"/>
                  <a:pt x="15776" y="12675"/>
                </a:cubicBezTo>
                <a:cubicBezTo>
                  <a:pt x="15714" y="12529"/>
                  <a:pt x="15596" y="12377"/>
                  <a:pt x="15453" y="12328"/>
                </a:cubicBezTo>
                <a:cubicBezTo>
                  <a:pt x="15296" y="12274"/>
                  <a:pt x="15234" y="12363"/>
                  <a:pt x="15106" y="124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82960" y="5384880"/>
            <a:ext cx="106200" cy="160200"/>
          </a:xfrm>
          <a:custGeom>
            <a:avLst/>
            <a:gdLst/>
            <a:ahLst/>
            <a:rect l="l" t="t" r="r" b="b"/>
            <a:pathLst>
              <a:path w="298" h="448">
                <a:moveTo>
                  <a:pt x="8285" y="15056"/>
                </a:moveTo>
                <a:cubicBezTo>
                  <a:pt x="8381" y="15031"/>
                  <a:pt x="8476" y="15011"/>
                  <a:pt x="8558" y="14957"/>
                </a:cubicBezTo>
              </a:path>
              <a:path w="298" h="448">
                <a:moveTo>
                  <a:pt x="8359" y="15354"/>
                </a:moveTo>
                <a:cubicBezTo>
                  <a:pt x="8409" y="15394"/>
                  <a:pt x="8464" y="15423"/>
                  <a:pt x="8533" y="15404"/>
                </a:cubicBezTo>
                <a:cubicBezTo>
                  <a:pt x="8549" y="15396"/>
                  <a:pt x="8566" y="15387"/>
                  <a:pt x="8582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5402160"/>
            <a:ext cx="545760" cy="401760"/>
          </a:xfrm>
          <a:custGeom>
            <a:avLst/>
            <a:gdLst/>
            <a:ahLst/>
            <a:rect l="l" t="t" r="r" b="b"/>
            <a:pathLst>
              <a:path w="1514" h="1117">
                <a:moveTo>
                  <a:pt x="9823" y="15304"/>
                </a:moveTo>
                <a:cubicBezTo>
                  <a:pt x="9872" y="15329"/>
                  <a:pt x="9779" y="15368"/>
                  <a:pt x="9748" y="15404"/>
                </a:cubicBezTo>
                <a:cubicBezTo>
                  <a:pt x="9666" y="15499"/>
                  <a:pt x="9595" y="15653"/>
                  <a:pt x="9575" y="15776"/>
                </a:cubicBezTo>
                <a:cubicBezTo>
                  <a:pt x="9561" y="15864"/>
                  <a:pt x="9612" y="16011"/>
                  <a:pt x="9674" y="16073"/>
                </a:cubicBezTo>
                <a:cubicBezTo>
                  <a:pt x="9763" y="16162"/>
                  <a:pt x="9913" y="16132"/>
                  <a:pt x="9996" y="16049"/>
                </a:cubicBezTo>
                <a:cubicBezTo>
                  <a:pt x="10077" y="15968"/>
                  <a:pt x="10085" y="15906"/>
                  <a:pt x="10096" y="15801"/>
                </a:cubicBezTo>
                <a:cubicBezTo>
                  <a:pt x="10001" y="15801"/>
                  <a:pt x="9912" y="15790"/>
                  <a:pt x="9872" y="15900"/>
                </a:cubicBezTo>
                <a:cubicBezTo>
                  <a:pt x="9834" y="16006"/>
                  <a:pt x="9893" y="16035"/>
                  <a:pt x="9971" y="16073"/>
                </a:cubicBezTo>
              </a:path>
              <a:path w="1514" h="1117">
                <a:moveTo>
                  <a:pt x="10468" y="15429"/>
                </a:moveTo>
                <a:cubicBezTo>
                  <a:pt x="10574" y="15412"/>
                  <a:pt x="10625" y="15390"/>
                  <a:pt x="10716" y="15429"/>
                </a:cubicBezTo>
                <a:cubicBezTo>
                  <a:pt x="10678" y="15594"/>
                  <a:pt x="10528" y="15647"/>
                  <a:pt x="10468" y="15801"/>
                </a:cubicBezTo>
                <a:cubicBezTo>
                  <a:pt x="10476" y="15809"/>
                  <a:pt x="10484" y="15817"/>
                  <a:pt x="10492" y="15825"/>
                </a:cubicBezTo>
                <a:cubicBezTo>
                  <a:pt x="10570" y="15825"/>
                  <a:pt x="10652" y="15833"/>
                  <a:pt x="10691" y="15850"/>
                </a:cubicBezTo>
                <a:cubicBezTo>
                  <a:pt x="10758" y="15879"/>
                  <a:pt x="10759" y="15983"/>
                  <a:pt x="10716" y="16049"/>
                </a:cubicBezTo>
                <a:cubicBezTo>
                  <a:pt x="10681" y="16102"/>
                  <a:pt x="10559" y="16076"/>
                  <a:pt x="10517" y="16073"/>
                </a:cubicBezTo>
                <a:cubicBezTo>
                  <a:pt x="10438" y="16067"/>
                  <a:pt x="10370" y="16055"/>
                  <a:pt x="10294" y="16049"/>
                </a:cubicBezTo>
                <a:cubicBezTo>
                  <a:pt x="10286" y="16049"/>
                  <a:pt x="10277" y="16049"/>
                  <a:pt x="10269" y="16049"/>
                </a:cubicBezTo>
              </a:path>
              <a:path w="1514" h="1117">
                <a:moveTo>
                  <a:pt x="9500" y="15081"/>
                </a:moveTo>
                <a:cubicBezTo>
                  <a:pt x="9675" y="15081"/>
                  <a:pt x="9847" y="15052"/>
                  <a:pt x="10021" y="15032"/>
                </a:cubicBezTo>
                <a:cubicBezTo>
                  <a:pt x="10263" y="15005"/>
                  <a:pt x="10478" y="15014"/>
                  <a:pt x="10716" y="15032"/>
                </a:cubicBezTo>
                <a:cubicBezTo>
                  <a:pt x="10815" y="15039"/>
                  <a:pt x="10903" y="15028"/>
                  <a:pt x="10988" y="15056"/>
                </a:cubicBezTo>
                <a:cubicBezTo>
                  <a:pt x="10996" y="15056"/>
                  <a:pt x="11005" y="15056"/>
                  <a:pt x="11013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67160" y="3313080"/>
            <a:ext cx="187200" cy="169920"/>
          </a:xfrm>
          <a:custGeom>
            <a:avLst/>
            <a:gdLst/>
            <a:ahLst/>
            <a:rect l="l" t="t" r="r" b="b"/>
            <a:pathLst>
              <a:path w="522" h="472">
                <a:moveTo>
                  <a:pt x="12254" y="9203"/>
                </a:moveTo>
                <a:cubicBezTo>
                  <a:pt x="12232" y="9309"/>
                  <a:pt x="12181" y="9416"/>
                  <a:pt x="12154" y="9525"/>
                </a:cubicBezTo>
                <a:cubicBezTo>
                  <a:pt x="12135" y="9599"/>
                  <a:pt x="12127" y="9606"/>
                  <a:pt x="12129" y="9649"/>
                </a:cubicBezTo>
                <a:cubicBezTo>
                  <a:pt x="12254" y="9659"/>
                  <a:pt x="12440" y="9615"/>
                  <a:pt x="12576" y="9575"/>
                </a:cubicBezTo>
                <a:cubicBezTo>
                  <a:pt x="12620" y="9553"/>
                  <a:pt x="12631" y="9550"/>
                  <a:pt x="12650" y="95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62640" y="3330720"/>
            <a:ext cx="18720" cy="312480"/>
          </a:xfrm>
          <a:custGeom>
            <a:avLst/>
            <a:gdLst/>
            <a:ahLst/>
            <a:rect l="l" t="t" r="r" b="b"/>
            <a:pathLst>
              <a:path w="51" h="869">
                <a:moveTo>
                  <a:pt x="12725" y="9252"/>
                </a:moveTo>
                <a:cubicBezTo>
                  <a:pt x="12684" y="9266"/>
                  <a:pt x="12678" y="9449"/>
                  <a:pt x="12675" y="9500"/>
                </a:cubicBezTo>
                <a:cubicBezTo>
                  <a:pt x="12663" y="9693"/>
                  <a:pt x="12680" y="9882"/>
                  <a:pt x="12700" y="10071"/>
                </a:cubicBezTo>
                <a:cubicBezTo>
                  <a:pt x="12700" y="10087"/>
                  <a:pt x="12700" y="10104"/>
                  <a:pt x="12700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60920" y="3295800"/>
            <a:ext cx="189000" cy="347400"/>
          </a:xfrm>
          <a:custGeom>
            <a:avLst/>
            <a:gdLst/>
            <a:ahLst/>
            <a:rect l="l" t="t" r="r" b="b"/>
            <a:pathLst>
              <a:path w="522" h="968">
                <a:moveTo>
                  <a:pt x="13419" y="9203"/>
                </a:moveTo>
                <a:cubicBezTo>
                  <a:pt x="13327" y="9162"/>
                  <a:pt x="13220" y="9116"/>
                  <a:pt x="13122" y="9178"/>
                </a:cubicBezTo>
                <a:cubicBezTo>
                  <a:pt x="12989" y="9263"/>
                  <a:pt x="12964" y="9437"/>
                  <a:pt x="12948" y="9575"/>
                </a:cubicBezTo>
                <a:cubicBezTo>
                  <a:pt x="13087" y="9638"/>
                  <a:pt x="13206" y="9636"/>
                  <a:pt x="13320" y="9500"/>
                </a:cubicBezTo>
                <a:cubicBezTo>
                  <a:pt x="13364" y="9447"/>
                  <a:pt x="13457" y="9293"/>
                  <a:pt x="13469" y="9227"/>
                </a:cubicBezTo>
                <a:cubicBezTo>
                  <a:pt x="13469" y="9219"/>
                  <a:pt x="13469" y="9211"/>
                  <a:pt x="13469" y="9203"/>
                </a:cubicBezTo>
                <a:cubicBezTo>
                  <a:pt x="13449" y="9344"/>
                  <a:pt x="13432" y="9479"/>
                  <a:pt x="13444" y="9624"/>
                </a:cubicBezTo>
                <a:cubicBezTo>
                  <a:pt x="13454" y="9745"/>
                  <a:pt x="13524" y="10001"/>
                  <a:pt x="13469" y="10120"/>
                </a:cubicBezTo>
                <a:cubicBezTo>
                  <a:pt x="13461" y="10120"/>
                  <a:pt x="13452" y="10120"/>
                  <a:pt x="13444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3160" y="3178080"/>
            <a:ext cx="527040" cy="117720"/>
          </a:xfrm>
          <a:custGeom>
            <a:avLst/>
            <a:gdLst/>
            <a:ahLst/>
            <a:rect l="l" t="t" r="r" b="b"/>
            <a:pathLst>
              <a:path w="1464" h="324">
                <a:moveTo>
                  <a:pt x="11981" y="9153"/>
                </a:moveTo>
                <a:cubicBezTo>
                  <a:pt x="12172" y="9089"/>
                  <a:pt x="12352" y="9038"/>
                  <a:pt x="12551" y="9004"/>
                </a:cubicBezTo>
                <a:cubicBezTo>
                  <a:pt x="12793" y="8963"/>
                  <a:pt x="13032" y="8908"/>
                  <a:pt x="13271" y="8855"/>
                </a:cubicBezTo>
                <a:cubicBezTo>
                  <a:pt x="13361" y="8835"/>
                  <a:pt x="13376" y="8836"/>
                  <a:pt x="13444" y="88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17920" y="3027240"/>
            <a:ext cx="125280" cy="160560"/>
          </a:xfrm>
          <a:custGeom>
            <a:avLst/>
            <a:gdLst/>
            <a:ahLst/>
            <a:rect l="l" t="t" r="r" b="b"/>
            <a:pathLst>
              <a:path w="348" h="447">
                <a:moveTo>
                  <a:pt x="9773" y="8409"/>
                </a:moveTo>
                <a:cubicBezTo>
                  <a:pt x="9773" y="8558"/>
                  <a:pt x="9773" y="8706"/>
                  <a:pt x="9773" y="8855"/>
                </a:cubicBezTo>
                <a:cubicBezTo>
                  <a:pt x="9874" y="8855"/>
                  <a:pt x="10021" y="8834"/>
                  <a:pt x="10096" y="8756"/>
                </a:cubicBezTo>
                <a:cubicBezTo>
                  <a:pt x="10104" y="8731"/>
                  <a:pt x="10112" y="8707"/>
                  <a:pt x="10120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60840" y="3017880"/>
            <a:ext cx="19080" cy="287280"/>
          </a:xfrm>
          <a:custGeom>
            <a:avLst/>
            <a:gdLst/>
            <a:ahLst/>
            <a:rect l="l" t="t" r="r" b="b"/>
            <a:pathLst>
              <a:path w="51" h="795">
                <a:moveTo>
                  <a:pt x="10220" y="8384"/>
                </a:moveTo>
                <a:cubicBezTo>
                  <a:pt x="10168" y="8500"/>
                  <a:pt x="10170" y="8578"/>
                  <a:pt x="10170" y="8706"/>
                </a:cubicBezTo>
                <a:cubicBezTo>
                  <a:pt x="10170" y="8857"/>
                  <a:pt x="10195" y="9001"/>
                  <a:pt x="10195" y="9153"/>
                </a:cubicBezTo>
                <a:cubicBezTo>
                  <a:pt x="10195" y="9161"/>
                  <a:pt x="10195" y="9170"/>
                  <a:pt x="10195" y="91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1360" y="3330720"/>
            <a:ext cx="419400" cy="107640"/>
          </a:xfrm>
          <a:custGeom>
            <a:avLst/>
            <a:gdLst/>
            <a:ahLst/>
            <a:rect l="l" t="t" r="r" b="b"/>
            <a:pathLst>
              <a:path w="1167" h="299">
                <a:moveTo>
                  <a:pt x="9475" y="9550"/>
                </a:moveTo>
                <a:cubicBezTo>
                  <a:pt x="9617" y="9493"/>
                  <a:pt x="9769" y="9443"/>
                  <a:pt x="9922" y="9426"/>
                </a:cubicBezTo>
                <a:cubicBezTo>
                  <a:pt x="10117" y="9404"/>
                  <a:pt x="10282" y="9373"/>
                  <a:pt x="10468" y="9302"/>
                </a:cubicBezTo>
                <a:cubicBezTo>
                  <a:pt x="10551" y="9270"/>
                  <a:pt x="10603" y="9219"/>
                  <a:pt x="10641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2200" y="3483000"/>
            <a:ext cx="196920" cy="295200"/>
          </a:xfrm>
          <a:custGeom>
            <a:avLst/>
            <a:gdLst/>
            <a:ahLst/>
            <a:rect l="l" t="t" r="r" b="b"/>
            <a:pathLst>
              <a:path w="547" h="819">
                <a:moveTo>
                  <a:pt x="9897" y="9798"/>
                </a:moveTo>
                <a:cubicBezTo>
                  <a:pt x="9949" y="9850"/>
                  <a:pt x="10061" y="9795"/>
                  <a:pt x="10145" y="9773"/>
                </a:cubicBezTo>
                <a:cubicBezTo>
                  <a:pt x="10241" y="9748"/>
                  <a:pt x="10331" y="9706"/>
                  <a:pt x="10418" y="9674"/>
                </a:cubicBezTo>
                <a:cubicBezTo>
                  <a:pt x="10426" y="9674"/>
                  <a:pt x="10435" y="9674"/>
                  <a:pt x="10443" y="9674"/>
                </a:cubicBezTo>
                <a:cubicBezTo>
                  <a:pt x="10430" y="9853"/>
                  <a:pt x="10362" y="10016"/>
                  <a:pt x="10344" y="10195"/>
                </a:cubicBezTo>
                <a:cubicBezTo>
                  <a:pt x="10339" y="10246"/>
                  <a:pt x="10367" y="10502"/>
                  <a:pt x="10368" y="10468"/>
                </a:cubicBezTo>
                <a:cubicBezTo>
                  <a:pt x="10368" y="10427"/>
                  <a:pt x="10368" y="10385"/>
                  <a:pt x="10368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46680" y="3276720"/>
            <a:ext cx="90360" cy="46080"/>
          </a:xfrm>
          <a:custGeom>
            <a:avLst/>
            <a:gdLst/>
            <a:ahLst/>
            <a:rect l="l" t="t" r="r" b="b"/>
            <a:pathLst>
              <a:path w="249" h="125">
                <a:moveTo>
                  <a:pt x="10964" y="9227"/>
                </a:moveTo>
                <a:cubicBezTo>
                  <a:pt x="11030" y="9205"/>
                  <a:pt x="11101" y="9163"/>
                  <a:pt x="11162" y="9128"/>
                </a:cubicBezTo>
                <a:cubicBezTo>
                  <a:pt x="11203" y="9108"/>
                  <a:pt x="11230" y="9099"/>
                  <a:pt x="11187" y="91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9040" y="3394080"/>
            <a:ext cx="169920" cy="79200"/>
          </a:xfrm>
          <a:custGeom>
            <a:avLst/>
            <a:gdLst/>
            <a:ahLst/>
            <a:rect l="l" t="t" r="r" b="b"/>
            <a:pathLst>
              <a:path w="472" h="224">
                <a:moveTo>
                  <a:pt x="10914" y="9649"/>
                </a:moveTo>
                <a:cubicBezTo>
                  <a:pt x="10972" y="9649"/>
                  <a:pt x="10990" y="9620"/>
                  <a:pt x="11038" y="9599"/>
                </a:cubicBezTo>
                <a:cubicBezTo>
                  <a:pt x="11102" y="9571"/>
                  <a:pt x="11176" y="9525"/>
                  <a:pt x="11237" y="9500"/>
                </a:cubicBezTo>
                <a:cubicBezTo>
                  <a:pt x="11264" y="9489"/>
                  <a:pt x="11311" y="9488"/>
                  <a:pt x="11336" y="9475"/>
                </a:cubicBezTo>
                <a:cubicBezTo>
                  <a:pt x="11371" y="9456"/>
                  <a:pt x="11376" y="9454"/>
                  <a:pt x="11385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13160" y="2867040"/>
            <a:ext cx="231840" cy="222120"/>
          </a:xfrm>
          <a:custGeom>
            <a:avLst/>
            <a:gdLst/>
            <a:ahLst/>
            <a:rect l="l" t="t" r="r" b="b"/>
            <a:pathLst>
              <a:path w="646" h="621">
                <a:moveTo>
                  <a:pt x="11981" y="8210"/>
                </a:moveTo>
                <a:cubicBezTo>
                  <a:pt x="12017" y="8102"/>
                  <a:pt x="12111" y="7995"/>
                  <a:pt x="12229" y="7962"/>
                </a:cubicBezTo>
                <a:cubicBezTo>
                  <a:pt x="12433" y="7905"/>
                  <a:pt x="12524" y="8159"/>
                  <a:pt x="12477" y="8310"/>
                </a:cubicBezTo>
                <a:cubicBezTo>
                  <a:pt x="12417" y="8500"/>
                  <a:pt x="12220" y="8569"/>
                  <a:pt x="12055" y="8558"/>
                </a:cubicBezTo>
                <a:cubicBezTo>
                  <a:pt x="12066" y="8425"/>
                  <a:pt x="12072" y="8354"/>
                  <a:pt x="12229" y="8409"/>
                </a:cubicBezTo>
                <a:cubicBezTo>
                  <a:pt x="12376" y="8460"/>
                  <a:pt x="12475" y="8542"/>
                  <a:pt x="12626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53000" y="2751120"/>
            <a:ext cx="142920" cy="293760"/>
          </a:xfrm>
          <a:custGeom>
            <a:avLst/>
            <a:gdLst/>
            <a:ahLst/>
            <a:rect l="l" t="t" r="r" b="b"/>
            <a:pathLst>
              <a:path w="398" h="819">
                <a:moveTo>
                  <a:pt x="13072" y="8186"/>
                </a:moveTo>
                <a:cubicBezTo>
                  <a:pt x="13176" y="8213"/>
                  <a:pt x="13296" y="8212"/>
                  <a:pt x="13320" y="8334"/>
                </a:cubicBezTo>
                <a:cubicBezTo>
                  <a:pt x="13352" y="8492"/>
                  <a:pt x="13114" y="8480"/>
                  <a:pt x="13022" y="8434"/>
                </a:cubicBezTo>
                <a:cubicBezTo>
                  <a:pt x="13006" y="8417"/>
                  <a:pt x="12989" y="8401"/>
                  <a:pt x="12973" y="8384"/>
                </a:cubicBezTo>
                <a:cubicBezTo>
                  <a:pt x="13008" y="8234"/>
                  <a:pt x="13111" y="8111"/>
                  <a:pt x="13171" y="7962"/>
                </a:cubicBezTo>
                <a:cubicBezTo>
                  <a:pt x="13221" y="7838"/>
                  <a:pt x="13187" y="7718"/>
                  <a:pt x="13097" y="7640"/>
                </a:cubicBezTo>
                <a:cubicBezTo>
                  <a:pt x="12928" y="7719"/>
                  <a:pt x="12866" y="7799"/>
                  <a:pt x="12973" y="7987"/>
                </a:cubicBezTo>
                <a:cubicBezTo>
                  <a:pt x="12998" y="8020"/>
                  <a:pt x="13022" y="8053"/>
                  <a:pt x="13047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3760" y="2928960"/>
            <a:ext cx="117360" cy="54000"/>
          </a:xfrm>
          <a:custGeom>
            <a:avLst/>
            <a:gdLst/>
            <a:ahLst/>
            <a:rect l="l" t="t" r="r" b="b"/>
            <a:pathLst>
              <a:path w="323" h="150">
                <a:moveTo>
                  <a:pt x="10567" y="8136"/>
                </a:moveTo>
                <a:cubicBezTo>
                  <a:pt x="10611" y="8151"/>
                  <a:pt x="10677" y="8207"/>
                  <a:pt x="10740" y="8235"/>
                </a:cubicBezTo>
                <a:cubicBezTo>
                  <a:pt x="10786" y="8255"/>
                  <a:pt x="10841" y="8275"/>
                  <a:pt x="10889" y="82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2911320"/>
            <a:ext cx="46080" cy="152640"/>
          </a:xfrm>
          <a:custGeom>
            <a:avLst/>
            <a:gdLst/>
            <a:ahLst/>
            <a:rect l="l" t="t" r="r" b="b"/>
            <a:pathLst>
              <a:path w="125" h="423">
                <a:moveTo>
                  <a:pt x="10889" y="8086"/>
                </a:moveTo>
                <a:cubicBezTo>
                  <a:pt x="10873" y="8182"/>
                  <a:pt x="10841" y="8290"/>
                  <a:pt x="10815" y="8384"/>
                </a:cubicBezTo>
                <a:cubicBezTo>
                  <a:pt x="10799" y="8441"/>
                  <a:pt x="10789" y="8507"/>
                  <a:pt x="10765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90960" y="2724120"/>
            <a:ext cx="90360" cy="187200"/>
          </a:xfrm>
          <a:custGeom>
            <a:avLst/>
            <a:gdLst/>
            <a:ahLst/>
            <a:rect l="l" t="t" r="r" b="b"/>
            <a:pathLst>
              <a:path w="249" h="522">
                <a:moveTo>
                  <a:pt x="11088" y="7665"/>
                </a:moveTo>
                <a:cubicBezTo>
                  <a:pt x="11136" y="7635"/>
                  <a:pt x="11184" y="7571"/>
                  <a:pt x="11237" y="7565"/>
                </a:cubicBezTo>
                <a:cubicBezTo>
                  <a:pt x="11292" y="7559"/>
                  <a:pt x="11297" y="7654"/>
                  <a:pt x="11311" y="7689"/>
                </a:cubicBezTo>
                <a:cubicBezTo>
                  <a:pt x="11338" y="7755"/>
                  <a:pt x="11350" y="7839"/>
                  <a:pt x="11336" y="7913"/>
                </a:cubicBezTo>
                <a:cubicBezTo>
                  <a:pt x="11318" y="8007"/>
                  <a:pt x="11303" y="8000"/>
                  <a:pt x="11336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9040" y="3697200"/>
            <a:ext cx="125280" cy="34920"/>
          </a:xfrm>
          <a:custGeom>
            <a:avLst/>
            <a:gdLst/>
            <a:ahLst/>
            <a:rect l="l" t="t" r="r" b="b"/>
            <a:pathLst>
              <a:path w="348" h="100">
                <a:moveTo>
                  <a:pt x="10914" y="10294"/>
                </a:moveTo>
                <a:cubicBezTo>
                  <a:pt x="10939" y="10220"/>
                  <a:pt x="11015" y="10304"/>
                  <a:pt x="11063" y="10319"/>
                </a:cubicBezTo>
                <a:cubicBezTo>
                  <a:pt x="11125" y="10338"/>
                  <a:pt x="11235" y="10361"/>
                  <a:pt x="11261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7040" y="3679920"/>
            <a:ext cx="17280" cy="106200"/>
          </a:xfrm>
          <a:custGeom>
            <a:avLst/>
            <a:gdLst/>
            <a:ahLst/>
            <a:rect l="l" t="t" r="r" b="b"/>
            <a:pathLst>
              <a:path w="50" h="298">
                <a:moveTo>
                  <a:pt x="11261" y="10220"/>
                </a:moveTo>
                <a:cubicBezTo>
                  <a:pt x="11256" y="10307"/>
                  <a:pt x="11245" y="10493"/>
                  <a:pt x="11212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60880" y="3510000"/>
            <a:ext cx="81000" cy="231840"/>
          </a:xfrm>
          <a:custGeom>
            <a:avLst/>
            <a:gdLst/>
            <a:ahLst/>
            <a:rect l="l" t="t" r="r" b="b"/>
            <a:pathLst>
              <a:path w="224" h="646">
                <a:moveTo>
                  <a:pt x="11559" y="9798"/>
                </a:moveTo>
                <a:cubicBezTo>
                  <a:pt x="11620" y="9776"/>
                  <a:pt x="11669" y="9748"/>
                  <a:pt x="11733" y="9748"/>
                </a:cubicBezTo>
                <a:cubicBezTo>
                  <a:pt x="11757" y="9748"/>
                  <a:pt x="11766" y="9748"/>
                  <a:pt x="11782" y="9748"/>
                </a:cubicBezTo>
                <a:cubicBezTo>
                  <a:pt x="11763" y="9863"/>
                  <a:pt x="11731" y="9980"/>
                  <a:pt x="11708" y="10096"/>
                </a:cubicBezTo>
                <a:cubicBezTo>
                  <a:pt x="11692" y="10177"/>
                  <a:pt x="11643" y="10351"/>
                  <a:pt x="11708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98960" y="3732120"/>
            <a:ext cx="54000" cy="9720"/>
          </a:xfrm>
          <a:custGeom>
            <a:avLst/>
            <a:gdLst/>
            <a:ahLst/>
            <a:rect l="l" t="t" r="r" b="b"/>
            <a:pathLst>
              <a:path w="150" h="26">
                <a:moveTo>
                  <a:pt x="11385" y="10368"/>
                </a:moveTo>
                <a:cubicBezTo>
                  <a:pt x="11437" y="10368"/>
                  <a:pt x="11468" y="10380"/>
                  <a:pt x="11509" y="10393"/>
                </a:cubicBezTo>
                <a:cubicBezTo>
                  <a:pt x="11517" y="10393"/>
                  <a:pt x="11526" y="10393"/>
                  <a:pt x="11534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Write some equivalent ratios on your own: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) 6: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) 5 to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219320" y="3886200"/>
          <a:ext cx="45720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86200"/>
                    <a:ext cx="4572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omparing Ratios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ify rat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using &lt;, &gt;,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 1.) 9:15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8: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 2.) 18:12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50:3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6:24:54Z</dcterms:created>
  <dc:creator>ccps</dc:creator>
  <dc:description/>
  <dc:language>en-US</dc:language>
  <cp:lastModifiedBy>deanne elizabeth mcgrath</cp:lastModifiedBy>
  <dcterms:modified xsi:type="dcterms:W3CDTF">2011-05-09T17:59:58Z</dcterms:modified>
  <cp:revision>8</cp:revision>
  <dc:subject/>
  <dc:title>Unit 13</dc:title>
</cp:coreProperties>
</file>